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D4ABF-DD97-4629-B8CC-93C424971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0FBFC-E30F-4DA0-902B-F7AC61CE4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D2E5F-4208-4159-B9B0-4EB3A3F25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68876-7E9B-4A6D-ADAD-22FB9EDFD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AD938-ABB6-4C9F-A590-0453323B4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3CC57-1B66-475C-977A-A93D04B7D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A7113-B3B3-4B72-8886-6BA97D4F7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E7CCB-A635-4A16-A60B-CCA43774E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F6C79-C1C4-40F4-9DE4-41BDA8B71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D2E9E-CE2B-4B70-BCA3-36848FF2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9365D-AE68-4D3D-8B33-60E1E9937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DB0D3-9941-485B-A85B-39BAC0046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F131-C97C-4A32-864F-65D05EA1BA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61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teria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ful ki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tures of the Different Shapes and Colonies of Bacteria</a:t>
            </a:r>
            <a:endParaRPr b="0" lang="en-US" sz="4000" spc="-1" strike="noStrike">
              <a:solidFill>
                <a:srgbClr val="000000"/>
              </a:solidFill>
              <a:latin typeface="Arial"/>
            </a:endParaRPr>
          </a:p>
        </p:txBody>
      </p:sp>
      <p:pic>
        <p:nvPicPr>
          <p:cNvPr id="60" name="" descr=""/>
          <p:cNvPicPr/>
          <p:nvPr/>
        </p:nvPicPr>
        <p:blipFill>
          <a:blip r:embed="rId1"/>
          <a:stretch/>
        </p:blipFill>
        <p:spPr>
          <a:xfrm>
            <a:off x="609480" y="2362320"/>
            <a:ext cx="1600200" cy="1371600"/>
          </a:xfrm>
          <a:prstGeom prst="rect">
            <a:avLst/>
          </a:prstGeom>
          <a:ln w="0">
            <a:noFill/>
          </a:ln>
        </p:spPr>
      </p:pic>
      <p:pic>
        <p:nvPicPr>
          <p:cNvPr id="61" name="" descr=""/>
          <p:cNvPicPr/>
          <p:nvPr/>
        </p:nvPicPr>
        <p:blipFill>
          <a:blip r:embed="rId2"/>
          <a:stretch/>
        </p:blipFill>
        <p:spPr>
          <a:xfrm>
            <a:off x="3505320" y="4800600"/>
            <a:ext cx="1676160" cy="1324080"/>
          </a:xfrm>
          <a:prstGeom prst="rect">
            <a:avLst/>
          </a:prstGeom>
          <a:ln w="0">
            <a:noFill/>
          </a:ln>
        </p:spPr>
      </p:pic>
      <p:pic>
        <p:nvPicPr>
          <p:cNvPr id="62" name="" descr=""/>
          <p:cNvPicPr/>
          <p:nvPr/>
        </p:nvPicPr>
        <p:blipFill>
          <a:blip r:embed="rId3"/>
          <a:stretch/>
        </p:blipFill>
        <p:spPr>
          <a:xfrm>
            <a:off x="7010280" y="2057400"/>
            <a:ext cx="1320840" cy="2971800"/>
          </a:xfrm>
          <a:prstGeom prst="rect">
            <a:avLst/>
          </a:prstGeom>
          <a:ln w="0">
            <a:noFill/>
          </a:ln>
        </p:spPr>
      </p:pic>
      <p:sp>
        <p:nvSpPr>
          <p:cNvPr id="63" name=""/>
          <p:cNvSpPr/>
          <p:nvPr/>
        </p:nvSpPr>
        <p:spPr>
          <a:xfrm>
            <a:off x="762120" y="4038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herical </a:t>
            </a:r>
            <a:endParaRPr b="0" lang="en-US" sz="1800" spc="-1" strike="noStrike">
              <a:solidFill>
                <a:srgbClr val="000000"/>
              </a:solidFill>
              <a:latin typeface="Arial"/>
            </a:endParaRPr>
          </a:p>
        </p:txBody>
      </p:sp>
      <p:sp>
        <p:nvSpPr>
          <p:cNvPr id="64" name=""/>
          <p:cNvSpPr/>
          <p:nvPr/>
        </p:nvSpPr>
        <p:spPr>
          <a:xfrm>
            <a:off x="3657600" y="4419720"/>
            <a:ext cx="1371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162920" y="5257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al</a:t>
            </a:r>
            <a:endParaRPr b="0" lang="en-US" sz="1800" spc="-1" strike="noStrike">
              <a:solidFill>
                <a:srgbClr val="000000"/>
              </a:solidFill>
              <a:latin typeface="Arial"/>
            </a:endParaRPr>
          </a:p>
        </p:txBody>
      </p:sp>
      <p:sp>
        <p:nvSpPr>
          <p:cNvPr id="66" name=""/>
          <p:cNvSpPr/>
          <p:nvPr/>
        </p:nvSpPr>
        <p:spPr>
          <a:xfrm>
            <a:off x="3581280" y="4267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l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Bacteria Pictures </a:t>
            </a:r>
            <a:endParaRPr b="0" lang="en-US" sz="4400" spc="-1" strike="noStrike">
              <a:solidFill>
                <a:srgbClr val="000000"/>
              </a:solidFill>
              <a:latin typeface="Arial"/>
            </a:endParaRPr>
          </a:p>
        </p:txBody>
      </p:sp>
      <p:pic>
        <p:nvPicPr>
          <p:cNvPr id="68" name="" descr=""/>
          <p:cNvPicPr/>
          <p:nvPr/>
        </p:nvPicPr>
        <p:blipFill>
          <a:blip r:embed="rId1"/>
          <a:stretch/>
        </p:blipFill>
        <p:spPr>
          <a:xfrm>
            <a:off x="457200" y="1523880"/>
            <a:ext cx="4064040" cy="2781360"/>
          </a:xfrm>
          <a:prstGeom prst="rect">
            <a:avLst/>
          </a:prstGeom>
          <a:ln w="0">
            <a:noFill/>
          </a:ln>
        </p:spPr>
      </p:pic>
      <p:sp>
        <p:nvSpPr>
          <p:cNvPr id="69" name=""/>
          <p:cNvSpPr/>
          <p:nvPr/>
        </p:nvSpPr>
        <p:spPr>
          <a:xfrm>
            <a:off x="1066680" y="45720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Diagram </a:t>
            </a:r>
            <a:endParaRPr b="0" lang="en-US" sz="1800" spc="-1" strike="noStrike">
              <a:solidFill>
                <a:srgbClr val="000000"/>
              </a:solidFill>
              <a:latin typeface="Arial"/>
            </a:endParaRPr>
          </a:p>
        </p:txBody>
      </p:sp>
      <p:pic>
        <p:nvPicPr>
          <p:cNvPr id="70" name="" descr=""/>
          <p:cNvPicPr/>
          <p:nvPr/>
        </p:nvPicPr>
        <p:blipFill>
          <a:blip r:embed="rId2"/>
          <a:stretch/>
        </p:blipFill>
        <p:spPr>
          <a:xfrm>
            <a:off x="5257800" y="1557360"/>
            <a:ext cx="3505320" cy="3376440"/>
          </a:xfrm>
          <a:prstGeom prst="rect">
            <a:avLst/>
          </a:prstGeom>
          <a:ln w="0">
            <a:noFill/>
          </a:ln>
        </p:spPr>
      </p:pic>
      <p:sp>
        <p:nvSpPr>
          <p:cNvPr id="71" name=""/>
          <p:cNvSpPr/>
          <p:nvPr/>
        </p:nvSpPr>
        <p:spPr>
          <a:xfrm>
            <a:off x="5410080" y="51814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bacteria in a dis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s of Helpful Bacteri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obucillus Retu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obucillus Case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fidobacteriu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charomyces Boulardi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ptococcus Thermophil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stinal Flo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 Flor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For Bacteria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Stomach Bacteria </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ntestinal Bacteria </a:t>
            </a:r>
            <a:endParaRPr b="0" lang="en-US" sz="3200" spc="-1" strike="noStrike">
              <a:solidFill>
                <a:srgbClr val="000000"/>
              </a:solidFill>
              <a:latin typeface="Arial"/>
            </a:endParaRPr>
          </a:p>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acteria in food </a:t>
            </a:r>
            <a:endParaRPr b="0" lang="en-US" sz="3200" spc="-1" strike="noStrike">
              <a:solidFill>
                <a:srgbClr val="000000"/>
              </a:solidFill>
              <a:latin typeface="Arial"/>
            </a:endParaRPr>
          </a:p>
          <a:p>
            <a:pPr marL="343080" indent="-3430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Bacteria on </a:t>
            </a:r>
            <a:r>
              <a:rPr b="0" i="1" lang="en-US" sz="3200" spc="-1" strike="noStrike">
                <a:solidFill>
                  <a:srgbClr val="cc9900"/>
                </a:solidFill>
                <a:latin typeface="Arial"/>
              </a:rPr>
              <a:t>you!!!</a:t>
            </a:r>
            <a:endParaRPr b="0" lang="en-US" sz="3200" spc="-1" strike="noStrike">
              <a:solidFill>
                <a:srgbClr val="000000"/>
              </a:solidFill>
              <a:latin typeface="Arial"/>
            </a:endParaRPr>
          </a:p>
          <a:p>
            <a:pPr marL="343080" indent="-343080">
              <a:spcBef>
                <a:spcPts val="799"/>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cc"/>
                </a:solidFill>
                <a:latin typeface="Arial"/>
              </a:rPr>
              <a:t>Other helpful Bacteria </a:t>
            </a:r>
            <a:endParaRPr b="0" lang="en-US" sz="3200" spc="-1" strike="noStrike">
              <a:solidFill>
                <a:srgbClr val="000000"/>
              </a:solidFill>
              <a:latin typeface="Arial"/>
            </a:endParaRPr>
          </a:p>
          <a:p>
            <a:pPr marL="343080" indent="-343080">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Good uses for helpful Bacte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tomach Bacteri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stinal Flo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 Flo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helpful healthy bacteria that live in out stomach are very usefu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elease many useful vitamins like Vitamin B and Vitamin 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task that these bacteria do, is they maintain a normal ph or acidic level in our stomac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helpful bacteria in our stomach work harmoniously with our immune syste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billions of stomach bacteria in us that are all friendly of beneficial bacte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Intestinal Bacteria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ter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fidobacteriu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nd many other types of bacteria help in our digestive syste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pecific bacterium are proven to help lessen diarrhea in childre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digestive system, some helpful bacteria help us by destroying other harmful organism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produce vitamins that we ne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acteria in our digestive system help us to break down lactos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Bacteria in Food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have bacteria in our food in order to keep it from being infected with harmful bacteria and to actually help us to create certain foo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teria helps us to create dairy products like cheese, milk, cream, sour cream and yogur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been proven that in fermented (turning/spoiled) milk with live bacteria Lactobacillus casei in it, helps to destroy harmful bacteria Helicobacter pylory in child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Bacteria in </a:t>
            </a:r>
            <a:r>
              <a:rPr b="0" i="1" lang="en-US" sz="4400" spc="-1" strike="noStrike">
                <a:solidFill>
                  <a:srgbClr val="cc9900"/>
                </a:solidFill>
                <a:latin typeface="Arial"/>
              </a:rPr>
              <a:t>you!!!</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helpful bacteria live inside your intestines and help your digestion. They also help in destroying harmful organisms in your body. Intestinal bacteria also produces some essential vitamins that we ne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bacteria in your digestive system help to break down lactose in your digestive trac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acteria on the skin protect us from the spread of certain fungu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many bacteria who live not only in our intestines but also in our mouth nose and throat. These bacteria get a place to live and feed while keeping other harmful microbes from joining them and living in our bod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a loot of stomach bacteria. Most of it works harmoniously with our immune syste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of our body’s cells are actually made up of bacteria (only 10% of our cells are human cells so we are actually more human than bacteria). 99% of ALL bacteria id good so most of our body is made up of good bac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cc"/>
                </a:solidFill>
                <a:latin typeface="Arial"/>
              </a:rPr>
              <a:t>Other Helpful Bacteria (unnamed)</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many types of helpful bacteria and not all of them are in our bodies or are named. Some of the following uses for helpful bacteria may be named, but I was not able to get that inf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acting as decomposers: feed on decayed matter and bring it about its breakdown. Without it, our environment would consist largely of dead animals and pl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ave the capacity to eat harmful substances: oi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used in cleaning of: gasoline leaks or oil spill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ful bacteria in body: without which we would become ill and suffer a lo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invade other viruses: bacteria and yeast to stop them from growing or spread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produces Vitamin K: gives us the vitamin that we need in order to clot blood in place where we’ve been cut and also to keep our bones stro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assist in in absorption of magnesium: needed for a number of functions all throughout our bod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elps manufacture enzyme lactase (milk digesting enzyme): required for digestion of most dairy produc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manufacturing different B Vitamins: needed for your body so it can perform many different function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elp prevent toxicity from the nutrients: other wise we would be intoxicated.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Arial"/>
              </a:rPr>
              <a:t>Other uses for helpful Bacteri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observed that infants who are given Lactobacillus reuteri or Bifidobacterium had fewer and shorter episodes of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aromyces boulardii is found to reduce the risk of antibiotic-associated diarrhea in childr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found that DNA was significantly reduced by all six strains of lactic acid producing helpful bacteria tested ( with the exception of Streptococcus thermophilu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9:55:22Z</dcterms:created>
  <dc:creator>shore family</dc:creator>
  <dc:description/>
  <dc:language>en-US</dc:language>
  <cp:lastModifiedBy>shore family</cp:lastModifiedBy>
  <dcterms:modified xsi:type="dcterms:W3CDTF">2009-11-12T01:41:25Z</dcterms:modified>
  <cp:revision>16</cp:revision>
  <dc:subject/>
  <dc:title>Bacteria </dc:title>
</cp:coreProperties>
</file>