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55AF-61EA-4F32-BC37-F0FB498CC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9FF6-B625-4455-A569-E5A17972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5A14-218D-42B3-B0C7-59383B900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61AB-DE9D-451C-ABE9-32AC5C2A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5685-D7C5-4EF6-9F6C-E0A1B455B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EFCE-C183-4F17-8951-E75B4181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A8D5-07ED-432A-AF00-89B29EED3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AC75-A3C8-4AA0-842C-AD9982D0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D15D-2C79-4D1D-8875-8C4D12C5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F10D-7394-4381-BC87-DB5C253F2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49E9-01D1-4E93-9924-39D6FADC9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49B3-F008-475B-AF6C-772D7BE1F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F81D-83B7-4234-B7E3-529DF5853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1FE4-2E49-4FE7-A1C8-265743648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30C0-4192-473F-9222-68FD05234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E1B-036C-409D-B6E6-F5C596D2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C60A-9A7E-4BD3-944A-062BDD86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935-955E-4760-8704-948382F30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A549-BB6B-4EF4-804F-38AD9815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29A5-2389-459B-A768-6C8FDFD8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4524-3989-4B80-A42E-0A16B136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0DB4-0E2D-4277-A295-D0C6866A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31A5-04D0-4F8B-A7CE-2CA8E49B3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B266-1E1A-4ECE-A66F-120B78DC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D678-438F-4EDA-A75C-DB8DECA64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6407-A5B0-4FB3-82C1-3510743F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05C2-2836-4060-B9F4-666691FBC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A832-FC83-4695-878D-F5267B071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7F4A-107A-4F88-81C4-38064DF6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2F95-9328-436B-8164-5142FBE8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B3D8-09CB-4554-8048-4EBE88DF5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7145-1612-4F84-8895-0553E8A3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E259-DC2C-4579-9AE0-5A55D1A1D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BD83-B9AA-408C-83B4-3CDB2451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CA48-F97F-4C0F-9F6D-08C4B5CBA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8517-D0FC-4706-83B5-91467FAE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A707-60E4-436C-8898-4F0A2E1A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3E5-1DC6-40AA-BDE5-0741FD76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264-536B-4888-B90C-867931A3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AE8-C68B-451B-8417-96A5BAEA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76D-6CAE-458A-8180-EA3B0BD0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F762-9E43-4CA0-8D98-99A37CC7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93B0-54B6-446D-9C71-4C9FE38D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D7C1-B98E-495A-A1A7-DDB6AF9B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6D09-DF17-4C0A-A518-7F517F31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B477-502E-4274-BBDF-C1A3FE8B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9936-7B33-41A6-88D7-3833FB04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731D-54D9-4B63-B71C-6DD5CFC1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3DB-8D81-4B57-8E73-C027B072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CE85-4E0C-48E1-A9BC-4C747FD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109C-9C40-44E7-8B15-6AFB34F1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942A-5C2B-44B2-B533-89D0DF08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E591-B697-4E0B-A334-7D3E6897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68BC-17F0-44CD-BB9F-97E5D1D1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B63-5EE6-470F-BD2D-C54B2797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3ED-7CB8-4514-A42D-57DC6920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3F0-5DDC-45B5-BB3B-AE3A667A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198-8752-4F68-A8C7-440C444A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9E7-E75A-4305-A30D-2A7AE542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B53-BB69-4195-901E-E6AE53C4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FEA-578E-4D85-813E-1F7CDFB7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41FE-EFC7-4DD1-844A-3C0D91C7B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76b74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1233-4439-478B-96B4-C708883AEE0D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" Target="slide36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5.xml"/><Relationship Id="rId4" Type="http://schemas.openxmlformats.org/officeDocument/2006/relationships/slide" Target="slide33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5.xml"/><Relationship Id="rId4" Type="http://schemas.openxmlformats.org/officeDocument/2006/relationships/slide" Target="slide32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27.xml"/><Relationship Id="rId4" Type="http://schemas.openxmlformats.org/officeDocument/2006/relationships/slide" Target="slide35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7.xml"/><Relationship Id="rId4" Type="http://schemas.openxmlformats.org/officeDocument/2006/relationships/slide" Target="slide34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30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31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microbiologists.htm" TargetMode="External"/><Relationship Id="rId3" Type="http://schemas.openxmlformats.org/officeDocument/2006/relationships/hyperlink" Target="http://www.nndb.com/people/355/000087094/" TargetMode="External"/><Relationship Id="rId4" Type="http://schemas.openxmlformats.org/officeDocument/2006/relationships/hyperlink" Target="http://en.wikipedia.org/wiki/Leeuwenhoek" TargetMode="External"/><Relationship Id="rId5" Type="http://schemas.openxmlformats.org/officeDocument/2006/relationships/hyperlink" Target="http://en.wikipedia.org/wiki/Leeuwenhoek" TargetMode="External"/><Relationship Id="rId6" Type="http://schemas.openxmlformats.org/officeDocument/2006/relationships/hyperlink" Target="http://en.wikipedia.org/wiki/Leeuwenhoek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Alexander_Fleming" TargetMode="External"/><Relationship Id="rId3" Type="http://schemas.openxmlformats.org/officeDocument/2006/relationships/hyperlink" Target="http://en.wikipedia.org/wiki/Alexander_Fleming" TargetMode="External"/><Relationship Id="rId4" Type="http://schemas.openxmlformats.org/officeDocument/2006/relationships/hyperlink" Target="http://www.crivitz.k12.wi.us/matty/microbiology/scientists/alexander_fleming.htm" TargetMode="External"/><Relationship Id="rId5" Type="http://schemas.openxmlformats.org/officeDocument/2006/relationships/hyperlink" Target="http://www.nndb.com/people/696/000091423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robert_koch.htm" TargetMode="External"/><Relationship Id="rId3" Type="http://schemas.openxmlformats.org/officeDocument/2006/relationships/hyperlink" Target="http://en.wikipedia.org/wiki/Robert_Koch" TargetMode="External"/><Relationship Id="rId4" Type="http://schemas.openxmlformats.org/officeDocument/2006/relationships/hyperlink" Target="http://en.wikipedia.org/wiki/Robert_Koch" TargetMode="External"/><Relationship Id="rId5" Type="http://schemas.openxmlformats.org/officeDocument/2006/relationships/hyperlink" Target="http://www.nndb.com/people/618/000091345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hyperlink" Target="http://www.uen.org/Rubric/rubric.cgi?rubric_id=18775" TargetMode="External"/><Relationship Id="rId9" Type="http://schemas.openxmlformats.org/officeDocument/2006/relationships/slide" Target="slide8.xml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ndb.com/people/580/000072364/" TargetMode="External"/><Relationship Id="rId3" Type="http://schemas.openxmlformats.org/officeDocument/2006/relationships/hyperlink" Target="http://en.wikipedia.org/wiki/Louis_Pasteur" TargetMode="External"/><Relationship Id="rId4" Type="http://schemas.openxmlformats.org/officeDocument/2006/relationships/hyperlink" Target="http://en.wikipedia.org/wiki/Louis_Pasteur" TargetMode="External"/><Relationship Id="rId5" Type="http://schemas.openxmlformats.org/officeDocument/2006/relationships/hyperlink" Target="http://www.crivitz.k12.wi.us/matty/microbiology/scientists/louis_pasteur.htm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joseph_lister.htm" TargetMode="External"/><Relationship Id="rId3" Type="http://schemas.openxmlformats.org/officeDocument/2006/relationships/hyperlink" Target="http://www.nndb.com/people/597/000091324/" TargetMode="External"/><Relationship Id="rId4" Type="http://schemas.openxmlformats.org/officeDocument/2006/relationships/hyperlink" Target="http://en.wikipedia.org/wiki/Joseph_Lister" TargetMode="External"/><Relationship Id="rId5" Type="http://schemas.openxmlformats.org/officeDocument/2006/relationships/hyperlink" Target="http://en.wikipedia.org/wiki/Joseph_Lister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Heinrich_Anton_de_Bary" TargetMode="External"/><Relationship Id="rId3" Type="http://schemas.openxmlformats.org/officeDocument/2006/relationships/hyperlink" Target="http://en.wikipedia.org/wiki/Heinrich_Anton_de_Bary" TargetMode="External"/><Relationship Id="rId4" Type="http://schemas.openxmlformats.org/officeDocument/2006/relationships/hyperlink" Target="http://www.nndb.com/people/142/000096851/" TargetMode="External"/><Relationship Id="rId5" Type="http://schemas.openxmlformats.org/officeDocument/2006/relationships/hyperlink" Target="http://encarta.msn.com/encyclopedia_762511218/de_bary_heinrich_anton.html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Edward_Jenner" TargetMode="External"/><Relationship Id="rId3" Type="http://schemas.openxmlformats.org/officeDocument/2006/relationships/hyperlink" Target="http://en.wikipedia.org/wiki/Edward_Jenner" TargetMode="External"/><Relationship Id="rId4" Type="http://schemas.openxmlformats.org/officeDocument/2006/relationships/hyperlink" Target="http://en.wikipedia.org/wiki/Edward_Jenner" TargetMode="External"/><Relationship Id="rId5" Type="http://schemas.openxmlformats.org/officeDocument/2006/relationships/hyperlink" Target="http://en.wikipedia.org/wiki/Edward_Jenner" TargetMode="External"/><Relationship Id="rId6" Type="http://schemas.openxmlformats.org/officeDocument/2006/relationships/hyperlink" Target="http://en.wikipedia.org/wiki/Edward_Jenner" TargetMode="External"/><Relationship Id="rId7" Type="http://schemas.openxmlformats.org/officeDocument/2006/relationships/hyperlink" Target="http://en.wikipedia.org/wiki/Edward_Jenner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m.org/Articles/Ferdinand.html" TargetMode="External"/><Relationship Id="rId3" Type="http://schemas.openxmlformats.org/officeDocument/2006/relationships/hyperlink" Target="http://www.asm.org/Articles/Ferdinand.html" TargetMode="External"/><Relationship Id="rId4" Type="http://schemas.openxmlformats.org/officeDocument/2006/relationships/hyperlink" Target="http://en.wikipedia.org/wiki/Ferdinand_Cohn" TargetMode="External"/><Relationship Id="rId5" Type="http://schemas.openxmlformats.org/officeDocument/2006/relationships/hyperlink" Target="http://en.wikipedia.org/wiki/Ferdinand_Cohn" TargetMode="External"/><Relationship Id="rId6" Type="http://schemas.openxmlformats.org/officeDocument/2006/relationships/hyperlink" Target="http://www.answers.com/topic/ferdinand-cohn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bacteria.asp" TargetMode="External"/><Relationship Id="rId3" Type="http://schemas.openxmlformats.org/officeDocument/2006/relationships/hyperlink" Target="http://www.buzzle.com/articles/helpful-and-harmful-types-of-bacteria.html" TargetMode="External"/><Relationship Id="rId4" Type="http://schemas.openxmlformats.org/officeDocument/2006/relationships/hyperlink" Target="http://www.articlesbase.com/health-articles/these-are-some-of-the-helpful-bacteria-found-in-the-environment-around-us-356913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viruses.asp" TargetMode="External"/><Relationship Id="rId3" Type="http://schemas.openxmlformats.org/officeDocument/2006/relationships/hyperlink" Target="http://staff.tuhsd.k12.az.us/gfoster/standard/bvirus.htm" TargetMode="External"/><Relationship Id="rId4" Type="http://schemas.openxmlformats.org/officeDocument/2006/relationships/hyperlink" Target="http://www.factmonster.com/cig/dangerous-diseases-epidemics/influenza-twentieth-century-epidemic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protozoa.asp" TargetMode="External"/><Relationship Id="rId3" Type="http://schemas.openxmlformats.org/officeDocument/2006/relationships/hyperlink" Target="http://biog-101-104.bio.cornell.edu/BioG101_104/tutorials/protista.html" TargetMode="External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fungi.asp" TargetMode="External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en.org/Rubric/rubric.cgi?rubric_id=18775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ndwhere.swf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hyperlink" Target="http://www.uen.org/Rubric/rubric.cgi?rubric_id=1877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6.xml"/><Relationship Id="rId4" Type="http://schemas.openxmlformats.org/officeDocument/2006/relationships/slide" Target="slide37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ou be the Microbiologi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quest on helpful and harmful 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chelle O’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 D-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Edward Je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vacc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lexander Fle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taphylococci and discovering Penicil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Robert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Tuberculosis &amp;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ntony van Leeuwenh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microsc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Ferdinand C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lg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Joseph L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ntiseptic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1h_qiozr[1]"/>
          <p:cNvPicPr/>
          <p:nvPr/>
        </p:nvPicPr>
        <p:blipFill>
          <a:blip r:embed="rId7"/>
          <a:stretch/>
        </p:blipFill>
        <p:spPr>
          <a:xfrm>
            <a:off x="6858000" y="533520"/>
            <a:ext cx="179712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Heinrich Anton de B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m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1h_qiozr[1]"/>
          <p:cNvPicPr/>
          <p:nvPr/>
        </p:nvPicPr>
        <p:blipFill>
          <a:blip r:embed="rId7"/>
          <a:stretch/>
        </p:blipFill>
        <p:spPr>
          <a:xfrm>
            <a:off x="6705720" y="533520"/>
            <a:ext cx="179676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eeuwenhoe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microbiologis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355/00008709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/wiki/Leeuwen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lem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Alexander_Fl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crivitz.k12.wi.us/matty/microbiology/scientists/alexander_flemin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96/00009142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discovered 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Koch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robert_koc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Robert_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18/00009134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helped with Tuberculosis and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Junior Microbi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Dip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 action="ppaction://hlinksldjump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 action="ppaction://hlinksldjump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8"/>
              </a:rPr>
              <a:t>Evaluation/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9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j0305257"/>
          <p:cNvPicPr/>
          <p:nvPr/>
        </p:nvPicPr>
        <p:blipFill>
          <a:blip r:embed="rId10"/>
          <a:stretch/>
        </p:blipFill>
        <p:spPr>
          <a:xfrm>
            <a:off x="5181480" y="1143000"/>
            <a:ext cx="30355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asteu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nndb.com/people/580/00007236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Louis_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crivitz.k12.wi.us/matty/microbiology/scientists/louis_pasteu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pasteuriz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is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joseph_list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597/00009132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Joseph_L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 antise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on de Bar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Heinrich_Anton_de_B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nndb.com/people/142/0000968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encarta.msn.com/encyclopedia_762511218/de_bary_heinrich_ant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smut and/or slime m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Jenn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vacc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>
            <a:hlinkClick r:id="rId8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Coh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www.asm.org/Articles/Ferdinan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Ferdinand_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www.answers.com/topic/ferdinand-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Bacteri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bacteria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buzzle.com/articles/helpful-and-harmful-types-of-bacter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articlesbase.com/health-articles/these-are-some-of-the-helpful-bacteria-found-in-the-environment-around-us-3569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bac"/>
          <p:cNvPicPr/>
          <p:nvPr/>
        </p:nvPicPr>
        <p:blipFill>
          <a:blip r:embed="rId6"/>
          <a:stretch/>
        </p:blipFill>
        <p:spPr>
          <a:xfrm>
            <a:off x="5638680" y="48006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Viru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viruses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staff.tuhsd.k12.az.us/gfoster/standard/bviru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factmonster.com/cig/dangerous-diseases-epidemics/influenza-twentieth-century-epidemi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viruses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virus_anat"/>
          <p:cNvPicPr/>
          <p:nvPr/>
        </p:nvPicPr>
        <p:blipFill>
          <a:blip r:embed="rId6"/>
          <a:stretch/>
        </p:blipFill>
        <p:spPr>
          <a:xfrm>
            <a:off x="6172200" y="4800600"/>
            <a:ext cx="1789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rotis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protozoa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biog-101-104.bio.cornell.edu/BioG101_104/tutorials/protist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is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4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Loxodes"/>
          <p:cNvPicPr/>
          <p:nvPr/>
        </p:nvPicPr>
        <p:blipFill>
          <a:blip r:embed="rId5"/>
          <a:stretch/>
        </p:blipFill>
        <p:spPr>
          <a:xfrm>
            <a:off x="5867280" y="4876920"/>
            <a:ext cx="281952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ungi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fungi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xtension.iastate.edu/news/2006/jan/0718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er.tamu.edu/curriculum_modules/Properties/Module_1/Activity_fung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fungi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ifrpcpqb[1]"/>
          <p:cNvPicPr/>
          <p:nvPr/>
        </p:nvPicPr>
        <p:blipFill>
          <a:blip r:embed="rId4"/>
          <a:stretch/>
        </p:blipFill>
        <p:spPr>
          <a:xfrm>
            <a:off x="6019920" y="4876920"/>
            <a:ext cx="2438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re you looking for a challenge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became a microbiologist test your knowledge by looking at the following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urther research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cientist that studies microorganisms is called a microbiologi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 and your teammates will become microbiologis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r goal is to do research and activities that will help you answe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s below in a PowerPoint format.  The PowerPoint will be presented to your mentor and posted on the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the world benefit from both helpful and harmful microorganisms? Why should we continue to research these micro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76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is complaining about a rash on their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very dry and it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8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only on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multiplies, it gives off carbon dioxid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58444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3"/>
          <a:stretch/>
        </p:blipFill>
        <p:spPr>
          <a:xfrm>
            <a:off x="1676520" y="4267080"/>
            <a:ext cx="2058840" cy="19814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5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breaking down organic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urning to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1182600" y="263700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0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icture of the inside of someone’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throat hu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990720" y="2638440"/>
            <a:ext cx="4002120" cy="30178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just visited Africa and got some mosquito b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headaches and a high f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1192320" y="2017800"/>
            <a:ext cx="378936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1523880" y="4038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0" y="4800600"/>
            <a:ext cx="1219320" cy="946440"/>
          </a:xfrm>
          <a:prstGeom prst="rect">
            <a:avLst/>
          </a:prstGeom>
          <a:solidFill>
            <a:srgbClr val="c47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s seen under micro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aking in carbon dioxide and putting 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also limit light and oxygen from marine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is complaining of itchy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4203720" cy="309240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has a high fever and a c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your Junior Microbiology Dipl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: be part of a group of specia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s, Bacteriologists, Mycologists or Parasitolog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 PowerPoint about your findings and why your team should be funded for furt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2"/>
          </p:cNvPr>
          <p:cNvSpPr/>
          <p:nvPr/>
        </p:nvSpPr>
        <p:spPr>
          <a:xfrm>
            <a:off x="4191120" y="5943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Junior Microbiology Diplom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icrobeworld.or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upper left corner click “about microbiolog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irst link “what is a microbe”. In this part read every section and subsection and summarize your readings by posting the important data as a Wiki (pictures and videoclips are welcom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 and do the activity.  Print your table when you are done.  Get 100% on the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Lucida Grande"/>
                <a:hlinkClick r:id="rId2"/>
              </a:rPr>
              <a:t>http://www.childrensuniversity.manchester.ac.uk/interactives/science/microorganisms/whatandwhere.s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ol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click on your specialty gro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1066680" y="2590920"/>
            <a:ext cx="3154320" cy="609480"/>
          </a:xfrm>
          <a:custGeom>
            <a:avLst/>
            <a:gdLst>
              <a:gd name="textAreaLeft" fmla="*/ 39240 w 3154320"/>
              <a:gd name="textAreaRight" fmla="*/ 3115080 w 315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1736" h="21600">
                <a:moveTo>
                  <a:pt x="0" y="0"/>
                </a:moveTo>
                <a:lnTo>
                  <a:pt x="111736" y="0"/>
                </a:lnTo>
                <a:lnTo>
                  <a:pt x="111736" y="21600"/>
                </a:lnTo>
                <a:lnTo>
                  <a:pt x="0" y="21600"/>
                </a:lnTo>
                <a:close/>
              </a:path>
              <a:path fill="lightenLess" w="111736" h="21600">
                <a:moveTo>
                  <a:pt x="0" y="0"/>
                </a:moveTo>
                <a:lnTo>
                  <a:pt x="111736" y="0"/>
                </a:lnTo>
                <a:lnTo>
                  <a:pt x="110336" y="1400"/>
                </a:lnTo>
                <a:lnTo>
                  <a:pt x="1400" y="1400"/>
                </a:lnTo>
                <a:close/>
              </a:path>
              <a:path fill="darken" w="111736" h="21600">
                <a:moveTo>
                  <a:pt x="111736" y="0"/>
                </a:moveTo>
                <a:lnTo>
                  <a:pt x="111736" y="21600"/>
                </a:lnTo>
                <a:lnTo>
                  <a:pt x="110336" y="20200"/>
                </a:lnTo>
                <a:lnTo>
                  <a:pt x="110336" y="1400"/>
                </a:lnTo>
                <a:close/>
              </a:path>
              <a:path fill="darkenLess" w="111736" h="21600">
                <a:moveTo>
                  <a:pt x="111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336" y="20200"/>
                </a:lnTo>
                <a:close/>
              </a:path>
              <a:path fill="lighten" w="111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>
            <a:hlinkClick r:id="rId3" action="ppaction://hlinksldjump"/>
          </p:cNvPr>
          <p:cNvSpPr/>
          <p:nvPr/>
        </p:nvSpPr>
        <p:spPr>
          <a:xfrm>
            <a:off x="10666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>
            <a:hlinkClick r:id="rId4" action="ppaction://hlinksldjump"/>
          </p:cNvPr>
          <p:cNvSpPr/>
          <p:nvPr/>
        </p:nvSpPr>
        <p:spPr>
          <a:xfrm>
            <a:off x="5181480" y="2590920"/>
            <a:ext cx="3124440" cy="609480"/>
          </a:xfrm>
          <a:custGeom>
            <a:avLst/>
            <a:gdLst>
              <a:gd name="textAreaLeft" fmla="*/ 39240 w 3124440"/>
              <a:gd name="textAreaRight" fmla="*/ 3085200 w 312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78" h="21600">
                <a:moveTo>
                  <a:pt x="0" y="0"/>
                </a:moveTo>
                <a:lnTo>
                  <a:pt x="110678" y="0"/>
                </a:lnTo>
                <a:lnTo>
                  <a:pt x="110678" y="21600"/>
                </a:lnTo>
                <a:lnTo>
                  <a:pt x="0" y="21600"/>
                </a:lnTo>
                <a:close/>
              </a:path>
              <a:path fill="lightenLess" w="110678" h="21600">
                <a:moveTo>
                  <a:pt x="0" y="0"/>
                </a:moveTo>
                <a:lnTo>
                  <a:pt x="110678" y="0"/>
                </a:lnTo>
                <a:lnTo>
                  <a:pt x="109278" y="1400"/>
                </a:lnTo>
                <a:lnTo>
                  <a:pt x="1400" y="1400"/>
                </a:lnTo>
                <a:close/>
              </a:path>
              <a:path fill="darken" w="110678" h="21600">
                <a:moveTo>
                  <a:pt x="110678" y="0"/>
                </a:moveTo>
                <a:lnTo>
                  <a:pt x="110678" y="21600"/>
                </a:lnTo>
                <a:lnTo>
                  <a:pt x="109278" y="20200"/>
                </a:lnTo>
                <a:lnTo>
                  <a:pt x="109278" y="1400"/>
                </a:lnTo>
                <a:close/>
              </a:path>
              <a:path fill="darkenLess" w="110678" h="21600">
                <a:moveTo>
                  <a:pt x="11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78" y="20200"/>
                </a:lnTo>
                <a:close/>
              </a:path>
              <a:path fill="lighten" w="11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rId5" action="ppaction://hlinksldjump"/>
          </p:cNvPr>
          <p:cNvSpPr/>
          <p:nvPr/>
        </p:nvSpPr>
        <p:spPr>
          <a:xfrm>
            <a:off x="51814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6" action="ppaction://hlinksldjump"/>
          </p:cNvPr>
          <p:cNvSpPr/>
          <p:nvPr/>
        </p:nvSpPr>
        <p:spPr>
          <a:xfrm>
            <a:off x="10666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7" action="ppaction://hlinksldjump"/>
          </p:cNvPr>
          <p:cNvSpPr/>
          <p:nvPr/>
        </p:nvSpPr>
        <p:spPr>
          <a:xfrm>
            <a:off x="10666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rId8" action="ppaction://hlinksldjump"/>
          </p:cNvPr>
          <p:cNvSpPr/>
          <p:nvPr/>
        </p:nvSpPr>
        <p:spPr>
          <a:xfrm>
            <a:off x="51814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>
            <a:hlinkClick r:id="rId9" action="ppaction://hlinksldjump"/>
          </p:cNvPr>
          <p:cNvSpPr/>
          <p:nvPr/>
        </p:nvSpPr>
        <p:spPr>
          <a:xfrm>
            <a:off x="51814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>
            <a:hlinkClick r:id="rId10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include transitions, sounds, pictures and hyperlinks, but emphasize on the content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r more pages/slides on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information on your specialt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cientist and why they are important (Scientist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microorganisms (Help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microorganisms (Harm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a specific microbe (Microbe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lide to persuade committee to fund furthe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rubric to make sure you have all tha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/>
          </p:cNvPr>
          <p:cNvSpPr/>
          <p:nvPr/>
        </p:nvSpPr>
        <p:spPr>
          <a:xfrm>
            <a:off x="2971800" y="5791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atulations!  You have completed a junior diploma of microbiology and experienced the importance of microbiologists!  Wow, to those of you that convinced the committee to fund your research.  Time to make the world a safer pl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Louis Pas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pasteur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3:29:32Z</dcterms:created>
  <dc:creator>ASD Teacher</dc:creator>
  <dc:description/>
  <dc:language>en-US</dc:language>
  <cp:lastModifiedBy>Nitzan Resnick</cp:lastModifiedBy>
  <dcterms:modified xsi:type="dcterms:W3CDTF">2009-08-13T13:06:32Z</dcterms:modified>
  <cp:revision>52</cp:revision>
  <dc:subject/>
  <dc:title>You are the Microbiologist</dc:title>
</cp:coreProperties>
</file>