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CD20-6354-4BE5-93CA-0C0822BF3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FEB6-52B7-4D25-A7E4-6EA963901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02CA-6CF9-409C-B4DF-5E1EB3E46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67FF-549D-4A37-A325-B3E54B0C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5B98-340D-4DAE-8151-7E9CDB394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E3FF-81F0-497E-89DA-49F549FC1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E0E8-F32D-4CB0-932F-D76B2DA5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0B7B-4E39-44E4-97FA-28701572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901-7F9F-4E60-B5C6-DB38D9B6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79E1-813C-4D22-B9B3-8DDE3BC9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06C2-4C5A-4C35-9103-6154C6E0F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2B59-41A4-485D-8BCC-879FB8FCA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DA89-0966-41E7-8A7F-280606A1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CCE7-AFB5-46DD-A43E-59677F451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F03-8514-4EFC-A528-95DF8158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2C01-FFFA-4F9C-9A99-A0F7E229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7153-8A25-4C24-81BF-DD3322655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F6BD-BE9D-449D-A614-79A375802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98A9-E943-4F15-AA2D-DA802D2B0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5EAF-2570-48B3-87F4-D9C44F209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A962-F814-4FCF-AC7D-E86F2F8C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F046-8027-4F4E-9D99-7BCDAF64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1BBA-A3F1-46CB-A446-BF64D9FA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30DC-9DDB-4F70-A9C6-823A74CF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32C8-B35C-4330-A896-034A5BCE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CBE0-6412-4CEE-9F44-5E6E417E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C9C4-5995-4DC6-AE0F-DA3C79CB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DAB9-C0EB-4833-A9C8-5D7A6B20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19B3-909B-4B6A-862C-42AECC1B1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98D6-C912-457D-8840-A940E8617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9AC-9396-49FC-9A03-D3CCCB2D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3182-78D0-49C2-8425-5443A4374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ACCA-EC6E-4AB2-B22E-611A13BD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72D7-A651-4D35-A1BB-3F69AD163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89DA-3EF1-4381-BB02-0EB34869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A725-DD88-4AB1-9556-E0C9A63B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4815-7523-456F-8815-B4DCAED03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1AA-9DC0-4C3B-9096-B0979E36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F5E-CE95-48C5-A00A-E508A04D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FE9-CC04-4FAA-B29B-39A6A01E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040-323E-46DD-AAF1-1C5FB06A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6542-B14B-43F9-8B8E-1485BD62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DEAE-0AE0-4302-A23D-25022A71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4A0F-F00A-41B9-A889-E1798794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066F-6282-4C88-8F2C-D3F45063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7770-7B3E-4A9A-AB07-5BF74419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8620-9675-4226-830A-25AF9385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AE37-C6E5-4087-A778-F193859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59E-DDC2-458F-9108-CDF1DDDE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1CE2-2219-4E24-9E3D-5C281C0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78CB-5CE6-4DBA-B4F9-DF7B07AE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7429-4E38-4CC9-8F3E-FDFCB174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C551-52EA-40F5-B772-5463EA86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D0F8-C670-48C0-B5F5-37FD83A5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2A9-1A64-4EF4-BB57-45347C78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B1B-F81B-4069-B752-F229235A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020-73F9-42EF-8DA3-DE204250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725-57E0-40B3-839F-45DE0215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CA8-37AC-40A0-A21A-9EA4F557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97B-E6C2-4D58-9A5D-30C3205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CDA-2ABB-4BFF-BC5C-1CFA6B8D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98A4-2D19-4C66-8EED-3DEAD11E5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76b74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C918-857D-4135-96C4-D88BD5FDB88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" Target="slide36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5.xml"/><Relationship Id="rId4" Type="http://schemas.openxmlformats.org/officeDocument/2006/relationships/slide" Target="slide33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5.xml"/><Relationship Id="rId4" Type="http://schemas.openxmlformats.org/officeDocument/2006/relationships/slide" Target="slide32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27.xml"/><Relationship Id="rId4" Type="http://schemas.openxmlformats.org/officeDocument/2006/relationships/slide" Target="slide35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7.xml"/><Relationship Id="rId4" Type="http://schemas.openxmlformats.org/officeDocument/2006/relationships/slide" Target="slide34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30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31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microbiologists.htm" TargetMode="External"/><Relationship Id="rId3" Type="http://schemas.openxmlformats.org/officeDocument/2006/relationships/hyperlink" Target="http://www.nndb.com/people/355/000087094/" TargetMode="External"/><Relationship Id="rId4" Type="http://schemas.openxmlformats.org/officeDocument/2006/relationships/hyperlink" Target="http://en.wikipedia.org/wiki/Leeuwenhoek" TargetMode="External"/><Relationship Id="rId5" Type="http://schemas.openxmlformats.org/officeDocument/2006/relationships/hyperlink" Target="http://en.wikipedia.org/wiki/Leeuwenhoek" TargetMode="External"/><Relationship Id="rId6" Type="http://schemas.openxmlformats.org/officeDocument/2006/relationships/hyperlink" Target="http://en.wikipedia.org/wiki/Leeuwenhoek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Alexander_Fleming" TargetMode="External"/><Relationship Id="rId3" Type="http://schemas.openxmlformats.org/officeDocument/2006/relationships/hyperlink" Target="http://en.wikipedia.org/wiki/Alexander_Fleming" TargetMode="External"/><Relationship Id="rId4" Type="http://schemas.openxmlformats.org/officeDocument/2006/relationships/hyperlink" Target="http://www.crivitz.k12.wi.us/matty/microbiology/scientists/alexander_fleming.htm" TargetMode="External"/><Relationship Id="rId5" Type="http://schemas.openxmlformats.org/officeDocument/2006/relationships/hyperlink" Target="http://www.nndb.com/people/696/000091423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robert_koch.htm" TargetMode="External"/><Relationship Id="rId3" Type="http://schemas.openxmlformats.org/officeDocument/2006/relationships/hyperlink" Target="http://en.wikipedia.org/wiki/Robert_Koch" TargetMode="External"/><Relationship Id="rId4" Type="http://schemas.openxmlformats.org/officeDocument/2006/relationships/hyperlink" Target="http://en.wikipedia.org/wiki/Robert_Koch" TargetMode="External"/><Relationship Id="rId5" Type="http://schemas.openxmlformats.org/officeDocument/2006/relationships/hyperlink" Target="http://www.nndb.com/people/618/000091345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hyperlink" Target="http://www.uen.org/Rubric/rubric.cgi?rubric_id=18775" TargetMode="External"/><Relationship Id="rId9" Type="http://schemas.openxmlformats.org/officeDocument/2006/relationships/slide" Target="slide8.xml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ndb.com/people/580/000072364/" TargetMode="External"/><Relationship Id="rId3" Type="http://schemas.openxmlformats.org/officeDocument/2006/relationships/hyperlink" Target="http://en.wikipedia.org/wiki/Louis_Pasteur" TargetMode="External"/><Relationship Id="rId4" Type="http://schemas.openxmlformats.org/officeDocument/2006/relationships/hyperlink" Target="http://en.wikipedia.org/wiki/Louis_Pasteur" TargetMode="External"/><Relationship Id="rId5" Type="http://schemas.openxmlformats.org/officeDocument/2006/relationships/hyperlink" Target="http://www.crivitz.k12.wi.us/matty/microbiology/scientists/louis_pasteur.htm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joseph_lister.htm" TargetMode="External"/><Relationship Id="rId3" Type="http://schemas.openxmlformats.org/officeDocument/2006/relationships/hyperlink" Target="http://www.nndb.com/people/597/000091324/" TargetMode="External"/><Relationship Id="rId4" Type="http://schemas.openxmlformats.org/officeDocument/2006/relationships/hyperlink" Target="http://en.wikipedia.org/wiki/Joseph_Lister" TargetMode="External"/><Relationship Id="rId5" Type="http://schemas.openxmlformats.org/officeDocument/2006/relationships/hyperlink" Target="http://en.wikipedia.org/wiki/Joseph_Lister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Heinrich_Anton_de_Bary" TargetMode="External"/><Relationship Id="rId3" Type="http://schemas.openxmlformats.org/officeDocument/2006/relationships/hyperlink" Target="http://en.wikipedia.org/wiki/Heinrich_Anton_de_Bary" TargetMode="External"/><Relationship Id="rId4" Type="http://schemas.openxmlformats.org/officeDocument/2006/relationships/hyperlink" Target="http://www.nndb.com/people/142/000096851/" TargetMode="External"/><Relationship Id="rId5" Type="http://schemas.openxmlformats.org/officeDocument/2006/relationships/hyperlink" Target="http://encarta.msn.com/encyclopedia_762511218/de_bary_heinrich_anton.html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Edward_Jenner" TargetMode="External"/><Relationship Id="rId3" Type="http://schemas.openxmlformats.org/officeDocument/2006/relationships/hyperlink" Target="http://en.wikipedia.org/wiki/Edward_Jenner" TargetMode="External"/><Relationship Id="rId4" Type="http://schemas.openxmlformats.org/officeDocument/2006/relationships/hyperlink" Target="http://en.wikipedia.org/wiki/Edward_Jenner" TargetMode="External"/><Relationship Id="rId5" Type="http://schemas.openxmlformats.org/officeDocument/2006/relationships/hyperlink" Target="http://en.wikipedia.org/wiki/Edward_Jenner" TargetMode="External"/><Relationship Id="rId6" Type="http://schemas.openxmlformats.org/officeDocument/2006/relationships/hyperlink" Target="http://en.wikipedia.org/wiki/Edward_Jenner" TargetMode="External"/><Relationship Id="rId7" Type="http://schemas.openxmlformats.org/officeDocument/2006/relationships/hyperlink" Target="http://en.wikipedia.org/wiki/Edward_Jenner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m.org/Articles/Ferdinand.html" TargetMode="External"/><Relationship Id="rId3" Type="http://schemas.openxmlformats.org/officeDocument/2006/relationships/hyperlink" Target="http://www.asm.org/Articles/Ferdinand.html" TargetMode="External"/><Relationship Id="rId4" Type="http://schemas.openxmlformats.org/officeDocument/2006/relationships/hyperlink" Target="http://en.wikipedia.org/wiki/Ferdinand_Cohn" TargetMode="External"/><Relationship Id="rId5" Type="http://schemas.openxmlformats.org/officeDocument/2006/relationships/hyperlink" Target="http://en.wikipedia.org/wiki/Ferdinand_Cohn" TargetMode="External"/><Relationship Id="rId6" Type="http://schemas.openxmlformats.org/officeDocument/2006/relationships/hyperlink" Target="http://www.answers.com/topic/ferdinand-cohn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bacteria.asp" TargetMode="External"/><Relationship Id="rId3" Type="http://schemas.openxmlformats.org/officeDocument/2006/relationships/hyperlink" Target="http://www.buzzle.com/articles/helpful-and-harmful-types-of-bacteria.html" TargetMode="External"/><Relationship Id="rId4" Type="http://schemas.openxmlformats.org/officeDocument/2006/relationships/hyperlink" Target="http://www.articlesbase.com/health-articles/these-are-some-of-the-helpful-bacteria-found-in-the-environment-around-us-356913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viruses.asp" TargetMode="External"/><Relationship Id="rId3" Type="http://schemas.openxmlformats.org/officeDocument/2006/relationships/hyperlink" Target="http://staff.tuhsd.k12.az.us/gfoster/standard/bvirus.htm" TargetMode="External"/><Relationship Id="rId4" Type="http://schemas.openxmlformats.org/officeDocument/2006/relationships/hyperlink" Target="http://www.factmonster.com/cig/dangerous-diseases-epidemics/influenza-twentieth-century-epidemic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protozoa.asp" TargetMode="External"/><Relationship Id="rId3" Type="http://schemas.openxmlformats.org/officeDocument/2006/relationships/hyperlink" Target="http://biog-101-104.bio.cornell.edu/BioG101_104/tutorials/protista.html" TargetMode="External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fungi.asp" TargetMode="External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en.org/Rubric/rubric.cgi?rubric_id=18775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ndwhere.swf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hyperlink" Target="http://www.uen.org/Rubric/rubric.cgi?rubric_id=1877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6.xml"/><Relationship Id="rId4" Type="http://schemas.openxmlformats.org/officeDocument/2006/relationships/slide" Target="slide37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ou be the Microbiologi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quest on helpful and harmful 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chelle O’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 D-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Edward Je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vacc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lexander Fle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taphylococci and discovering Penicil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Robert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Tuberculosis &amp;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ntony van Leeuwenh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microsc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Ferdinand C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lg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Joseph L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ntiseptic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1h_qiozr[1]"/>
          <p:cNvPicPr/>
          <p:nvPr/>
        </p:nvPicPr>
        <p:blipFill>
          <a:blip r:embed="rId7"/>
          <a:stretch/>
        </p:blipFill>
        <p:spPr>
          <a:xfrm>
            <a:off x="6858000" y="533520"/>
            <a:ext cx="179712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Heinrich Anton de B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m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1h_qiozr[1]"/>
          <p:cNvPicPr/>
          <p:nvPr/>
        </p:nvPicPr>
        <p:blipFill>
          <a:blip r:embed="rId7"/>
          <a:stretch/>
        </p:blipFill>
        <p:spPr>
          <a:xfrm>
            <a:off x="6705720" y="533520"/>
            <a:ext cx="179676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eeuwenhoe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microbiologis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355/00008709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/wiki/Leeuwen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lem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Alexander_Fl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crivitz.k12.wi.us/matty/microbiology/scientists/alexander_flemin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96/00009142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discovered 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Koch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robert_koc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Robert_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18/00009134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helped with Tuberculosis and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Junior Microbi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Dip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 action="ppaction://hlinksldjump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 action="ppaction://hlinksldjump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8"/>
              </a:rPr>
              <a:t>Evaluation/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9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j0305257"/>
          <p:cNvPicPr/>
          <p:nvPr/>
        </p:nvPicPr>
        <p:blipFill>
          <a:blip r:embed="rId10"/>
          <a:stretch/>
        </p:blipFill>
        <p:spPr>
          <a:xfrm>
            <a:off x="5181480" y="1143000"/>
            <a:ext cx="30355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asteu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nndb.com/people/580/00007236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Louis_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crivitz.k12.wi.us/matty/microbiology/scientists/louis_pasteu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pasteuriz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is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joseph_list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597/00009132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Joseph_L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 antise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on de Bar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Heinrich_Anton_de_B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nndb.com/people/142/0000968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encarta.msn.com/encyclopedia_762511218/de_bary_heinrich_ant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smut and/or slime m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Jenn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vacc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>
            <a:hlinkClick r:id="rId8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Coh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www.asm.org/Articles/Ferdinan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Ferdinand_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www.answers.com/topic/ferdinand-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Bacteri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bacteria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buzzle.com/articles/helpful-and-harmful-types-of-bacter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articlesbase.com/health-articles/these-are-some-of-the-helpful-bacteria-found-in-the-environment-around-us-3569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bac"/>
          <p:cNvPicPr/>
          <p:nvPr/>
        </p:nvPicPr>
        <p:blipFill>
          <a:blip r:embed="rId6"/>
          <a:stretch/>
        </p:blipFill>
        <p:spPr>
          <a:xfrm>
            <a:off x="5638680" y="48006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Viru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viruses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staff.tuhsd.k12.az.us/gfoster/standard/bviru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factmonster.com/cig/dangerous-diseases-epidemics/influenza-twentieth-century-epidemi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viruses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virus_anat"/>
          <p:cNvPicPr/>
          <p:nvPr/>
        </p:nvPicPr>
        <p:blipFill>
          <a:blip r:embed="rId6"/>
          <a:stretch/>
        </p:blipFill>
        <p:spPr>
          <a:xfrm>
            <a:off x="6172200" y="4800600"/>
            <a:ext cx="1789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rotis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protozoa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biog-101-104.bio.cornell.edu/BioG101_104/tutorials/protist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is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4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Loxodes"/>
          <p:cNvPicPr/>
          <p:nvPr/>
        </p:nvPicPr>
        <p:blipFill>
          <a:blip r:embed="rId5"/>
          <a:stretch/>
        </p:blipFill>
        <p:spPr>
          <a:xfrm>
            <a:off x="5867280" y="4876920"/>
            <a:ext cx="281952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ungi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fungi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xtension.iastate.edu/news/2006/jan/0718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er.tamu.edu/curriculum_modules/Properties/Module_1/Activity_fung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fungi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ifrpcpqb[1]"/>
          <p:cNvPicPr/>
          <p:nvPr/>
        </p:nvPicPr>
        <p:blipFill>
          <a:blip r:embed="rId4"/>
          <a:stretch/>
        </p:blipFill>
        <p:spPr>
          <a:xfrm>
            <a:off x="6019920" y="4876920"/>
            <a:ext cx="2438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re you looking for a challenge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became a microbiologist test your knowledge by looking at the following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urther research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cientist that studies microorganisms is called a microbiologi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 and your teammates will become microbiologis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r goal is to do research and activities that will help you answe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s below in a PowerPoint format.  The PowerPoint will be presented to your mentor and posted on the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the world benefit from both helpful and harmful microorganisms? Why should we continue to research these micro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76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is complaining about a rash on their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very dry and it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8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only on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multiplies, it gives off carbon dioxid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58444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3"/>
          <a:stretch/>
        </p:blipFill>
        <p:spPr>
          <a:xfrm>
            <a:off x="1676520" y="4267080"/>
            <a:ext cx="2058840" cy="19814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5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breaking down organic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urning to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1182600" y="263700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0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icture of the inside of someone’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throat hu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990720" y="2638440"/>
            <a:ext cx="4002120" cy="30178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just visited Africa and got some mosquito b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headaches and a high f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1192320" y="2017800"/>
            <a:ext cx="378936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1523880" y="4038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0" y="4800600"/>
            <a:ext cx="1219320" cy="946440"/>
          </a:xfrm>
          <a:prstGeom prst="rect">
            <a:avLst/>
          </a:prstGeom>
          <a:solidFill>
            <a:srgbClr val="c47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s seen under micro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aking in carbon dioxide and putting 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also limit light and oxygen from marine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is complaining of itchy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4203720" cy="309240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has a high fever and a c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your Junior Microbiology Dipl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: be part of a group of specia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s, Bacteriologists, Mycologists or Parasitolog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 PowerPoint about your findings and why your team should be funded for furt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2"/>
          </p:cNvPr>
          <p:cNvSpPr/>
          <p:nvPr/>
        </p:nvSpPr>
        <p:spPr>
          <a:xfrm>
            <a:off x="4191120" y="5943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Junior Microbiology Diplom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icrobeworld.or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upper left corner click “about microbiolog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irst link “what is a microbe”. In this part read every section and subsection and summarize your readings by posting the important data as a Wiki (pictures and videoclips are welcom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 and do the activity.  Print your table when you are done.  Get 100% on the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Lucida Grande"/>
                <a:hlinkClick r:id="rId2"/>
              </a:rPr>
              <a:t>http://www.childrensuniversity.manchester.ac.uk/interactives/science/microorganisms/whatandwhere.s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ol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click on your specialty gro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1066680" y="2590920"/>
            <a:ext cx="3154320" cy="609480"/>
          </a:xfrm>
          <a:custGeom>
            <a:avLst/>
            <a:gdLst>
              <a:gd name="textAreaLeft" fmla="*/ 39240 w 3154320"/>
              <a:gd name="textAreaRight" fmla="*/ 3115080 w 315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1736" h="21600">
                <a:moveTo>
                  <a:pt x="0" y="0"/>
                </a:moveTo>
                <a:lnTo>
                  <a:pt x="111736" y="0"/>
                </a:lnTo>
                <a:lnTo>
                  <a:pt x="111736" y="21600"/>
                </a:lnTo>
                <a:lnTo>
                  <a:pt x="0" y="21600"/>
                </a:lnTo>
                <a:close/>
              </a:path>
              <a:path fill="lightenLess" w="111736" h="21600">
                <a:moveTo>
                  <a:pt x="0" y="0"/>
                </a:moveTo>
                <a:lnTo>
                  <a:pt x="111736" y="0"/>
                </a:lnTo>
                <a:lnTo>
                  <a:pt x="110336" y="1400"/>
                </a:lnTo>
                <a:lnTo>
                  <a:pt x="1400" y="1400"/>
                </a:lnTo>
                <a:close/>
              </a:path>
              <a:path fill="darken" w="111736" h="21600">
                <a:moveTo>
                  <a:pt x="111736" y="0"/>
                </a:moveTo>
                <a:lnTo>
                  <a:pt x="111736" y="21600"/>
                </a:lnTo>
                <a:lnTo>
                  <a:pt x="110336" y="20200"/>
                </a:lnTo>
                <a:lnTo>
                  <a:pt x="110336" y="1400"/>
                </a:lnTo>
                <a:close/>
              </a:path>
              <a:path fill="darkenLess" w="111736" h="21600">
                <a:moveTo>
                  <a:pt x="111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336" y="20200"/>
                </a:lnTo>
                <a:close/>
              </a:path>
              <a:path fill="lighten" w="111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>
            <a:hlinkClick r:id="rId3" action="ppaction://hlinksldjump"/>
          </p:cNvPr>
          <p:cNvSpPr/>
          <p:nvPr/>
        </p:nvSpPr>
        <p:spPr>
          <a:xfrm>
            <a:off x="10666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>
            <a:hlinkClick r:id="rId4" action="ppaction://hlinksldjump"/>
          </p:cNvPr>
          <p:cNvSpPr/>
          <p:nvPr/>
        </p:nvSpPr>
        <p:spPr>
          <a:xfrm>
            <a:off x="5181480" y="2590920"/>
            <a:ext cx="3124440" cy="609480"/>
          </a:xfrm>
          <a:custGeom>
            <a:avLst/>
            <a:gdLst>
              <a:gd name="textAreaLeft" fmla="*/ 39240 w 3124440"/>
              <a:gd name="textAreaRight" fmla="*/ 3085200 w 312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78" h="21600">
                <a:moveTo>
                  <a:pt x="0" y="0"/>
                </a:moveTo>
                <a:lnTo>
                  <a:pt x="110678" y="0"/>
                </a:lnTo>
                <a:lnTo>
                  <a:pt x="110678" y="21600"/>
                </a:lnTo>
                <a:lnTo>
                  <a:pt x="0" y="21600"/>
                </a:lnTo>
                <a:close/>
              </a:path>
              <a:path fill="lightenLess" w="110678" h="21600">
                <a:moveTo>
                  <a:pt x="0" y="0"/>
                </a:moveTo>
                <a:lnTo>
                  <a:pt x="110678" y="0"/>
                </a:lnTo>
                <a:lnTo>
                  <a:pt x="109278" y="1400"/>
                </a:lnTo>
                <a:lnTo>
                  <a:pt x="1400" y="1400"/>
                </a:lnTo>
                <a:close/>
              </a:path>
              <a:path fill="darken" w="110678" h="21600">
                <a:moveTo>
                  <a:pt x="110678" y="0"/>
                </a:moveTo>
                <a:lnTo>
                  <a:pt x="110678" y="21600"/>
                </a:lnTo>
                <a:lnTo>
                  <a:pt x="109278" y="20200"/>
                </a:lnTo>
                <a:lnTo>
                  <a:pt x="109278" y="1400"/>
                </a:lnTo>
                <a:close/>
              </a:path>
              <a:path fill="darkenLess" w="110678" h="21600">
                <a:moveTo>
                  <a:pt x="11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78" y="20200"/>
                </a:lnTo>
                <a:close/>
              </a:path>
              <a:path fill="lighten" w="11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rId5" action="ppaction://hlinksldjump"/>
          </p:cNvPr>
          <p:cNvSpPr/>
          <p:nvPr/>
        </p:nvSpPr>
        <p:spPr>
          <a:xfrm>
            <a:off x="51814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6" action="ppaction://hlinksldjump"/>
          </p:cNvPr>
          <p:cNvSpPr/>
          <p:nvPr/>
        </p:nvSpPr>
        <p:spPr>
          <a:xfrm>
            <a:off x="10666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7" action="ppaction://hlinksldjump"/>
          </p:cNvPr>
          <p:cNvSpPr/>
          <p:nvPr/>
        </p:nvSpPr>
        <p:spPr>
          <a:xfrm>
            <a:off x="10666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rId8" action="ppaction://hlinksldjump"/>
          </p:cNvPr>
          <p:cNvSpPr/>
          <p:nvPr/>
        </p:nvSpPr>
        <p:spPr>
          <a:xfrm>
            <a:off x="51814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>
            <a:hlinkClick r:id="rId9" action="ppaction://hlinksldjump"/>
          </p:cNvPr>
          <p:cNvSpPr/>
          <p:nvPr/>
        </p:nvSpPr>
        <p:spPr>
          <a:xfrm>
            <a:off x="51814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>
            <a:hlinkClick r:id="rId10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include transitions, sounds, pictures and hyperlinks, but emphasize on the content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r more pages/slides on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information on your specialt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cientist and why they are important (Scientist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microorganisms (Help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microorganisms (Harm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a specific microbe (Microbe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lide to persuade committee to fund furthe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rubric to make sure you have all tha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/>
          </p:cNvPr>
          <p:cNvSpPr/>
          <p:nvPr/>
        </p:nvSpPr>
        <p:spPr>
          <a:xfrm>
            <a:off x="2971800" y="5791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atulations!  You have completed a junior diploma of microbiology and experienced the importance of microbiologists!  Wow, to those of you that convinced the committee to fund your research.  Time to make the world a safer pl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Louis Pas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pasteur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3:29:32Z</dcterms:created>
  <dc:creator>ASD Teacher</dc:creator>
  <dc:description/>
  <dc:language>en-US</dc:language>
  <cp:lastModifiedBy>Nitzan Resnick</cp:lastModifiedBy>
  <dcterms:modified xsi:type="dcterms:W3CDTF">2009-08-13T13:06:32Z</dcterms:modified>
  <cp:revision>52</cp:revision>
  <dc:subject/>
  <dc:title>You are the Microbiologist</dc:title>
</cp:coreProperties>
</file>