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E155-EE3A-4444-ACF8-64EE44441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DB65-1B9F-41C4-8EAF-70EC50C70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9ECE-147A-4B32-BE10-8E0D4180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211-8245-4F14-A8B9-415ACE1F1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CF9D-80C0-4B1E-AD31-34AC1FA44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8883-61F0-432C-95F2-29EA6CBCD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2C4B-0529-4A2B-AD43-2D6E88A6A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92A-A6B3-458A-A335-4EF1BDEF0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324-69E9-4373-8CFA-A3D8AB3B1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A6D1-9BE2-4171-8671-522AECEEB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B51C-5190-4729-A130-DC9536C7B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D1A1-39E8-477C-AB56-03068B3B3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DF0-5559-4A68-850F-42B96E20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D95E-50D5-4B6E-88B1-931362ECD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FC0F-D636-44B6-A026-3A07308A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687A-270B-40A1-A2C0-E0FBEC2C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3B15-F4CC-4546-B5BE-DE2C7F230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48AA-B2E9-49D1-A7E1-768DC8EE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1EA1-1ED4-4192-AB23-2BBB9CAC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C759-48FF-4A4F-B946-A1EB895A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74CC-86E9-44A1-9E3F-75A132469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9FFE-1CD7-4CF8-BFF2-5777D7F4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9253-7AAB-4F96-A0B3-47A4EB94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416A-82F1-4587-97DD-62C8ADA63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7604-9290-4357-8118-FE86E4191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8BFD-A886-4AD1-9CF7-674721230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03D-5C19-4D0B-A71A-D7673270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5D72-2C25-44E2-AD3A-5938B2FAA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5D83-7A74-4269-9C79-D29FF4018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7AD6-545F-4CDD-BA4A-68627FE2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699F-6B23-4FA3-981D-9F23E980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F0D9-6F8C-4086-B038-87BEEA7B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C915-FB18-4A03-999D-76D9C7EC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1481-C2A9-4031-9C49-AC4BC4828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0B4F-5079-4145-B681-4D4FC2C0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5431-C3C0-4AD7-A725-F1D6799A2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ECBC-437F-41EB-86DB-E5A32259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38F-CED4-402C-ADC1-47B11DD9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36B-915C-46B3-A149-830F8D1D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A4A-23FE-4DE3-9773-B76DD388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DA9-734B-420A-B29D-1E441167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F2B7-30DB-4601-B504-5B523287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30C8-422A-4B22-ACD1-B967462F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E029-200D-4C4E-8D21-F4C034EF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33A4-03A9-42F3-B822-629F98BD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8620-75ED-4DDF-9A78-0D6A7BA7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BBC-4943-4EF2-9994-B3A81B9A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57F9-23E9-4588-8673-CA331ED6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6FC-936A-43E0-80BF-39FEF86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EA76-CCFE-4C19-AF32-C2F2B743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DB8F-56E1-49F9-858C-5CA29B64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5455-D7CA-4976-8E21-85D45FE8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08CE-6073-4C68-AEAB-46DEF747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AF61-1C74-4E2B-A8E6-76477308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53F-9901-4117-B76F-BC35E8F0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261-FBDB-4A2B-BE93-F2413369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5CD-F7C6-4BC9-83E8-1E8AD149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5AB-2671-4EF6-AFF4-3A8B61BA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D56-BB2E-4A88-815D-7609E863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4BE-999E-400E-A558-649A4172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885-4CBE-4D33-A627-E6A59BA4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9B3-9CB2-4D77-A0A7-FB51D5926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76b74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A48A-F0F7-4BF5-88A1-AFA250F2975C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" Target="slide36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5.xml"/><Relationship Id="rId4" Type="http://schemas.openxmlformats.org/officeDocument/2006/relationships/slide" Target="slide33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5.xml"/><Relationship Id="rId4" Type="http://schemas.openxmlformats.org/officeDocument/2006/relationships/slide" Target="slide32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27.xml"/><Relationship Id="rId4" Type="http://schemas.openxmlformats.org/officeDocument/2006/relationships/slide" Target="slide35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7.xml"/><Relationship Id="rId4" Type="http://schemas.openxmlformats.org/officeDocument/2006/relationships/slide" Target="slide34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30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31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microbiologists.htm" TargetMode="External"/><Relationship Id="rId3" Type="http://schemas.openxmlformats.org/officeDocument/2006/relationships/hyperlink" Target="http://www.nndb.com/people/355/000087094/" TargetMode="External"/><Relationship Id="rId4" Type="http://schemas.openxmlformats.org/officeDocument/2006/relationships/hyperlink" Target="http://en.wikipedia.org/wiki/Leeuwenhoek" TargetMode="External"/><Relationship Id="rId5" Type="http://schemas.openxmlformats.org/officeDocument/2006/relationships/hyperlink" Target="http://en.wikipedia.org/wiki/Leeuwenhoek" TargetMode="External"/><Relationship Id="rId6" Type="http://schemas.openxmlformats.org/officeDocument/2006/relationships/hyperlink" Target="http://en.wikipedia.org/wiki/Leeuwenhoek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Alexander_Fleming" TargetMode="External"/><Relationship Id="rId3" Type="http://schemas.openxmlformats.org/officeDocument/2006/relationships/hyperlink" Target="http://en.wikipedia.org/wiki/Alexander_Fleming" TargetMode="External"/><Relationship Id="rId4" Type="http://schemas.openxmlformats.org/officeDocument/2006/relationships/hyperlink" Target="http://www.crivitz.k12.wi.us/matty/microbiology/scientists/alexander_fleming.htm" TargetMode="External"/><Relationship Id="rId5" Type="http://schemas.openxmlformats.org/officeDocument/2006/relationships/hyperlink" Target="http://www.nndb.com/people/696/000091423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robert_koch.htm" TargetMode="External"/><Relationship Id="rId3" Type="http://schemas.openxmlformats.org/officeDocument/2006/relationships/hyperlink" Target="http://en.wikipedia.org/wiki/Robert_Koch" TargetMode="External"/><Relationship Id="rId4" Type="http://schemas.openxmlformats.org/officeDocument/2006/relationships/hyperlink" Target="http://en.wikipedia.org/wiki/Robert_Koch" TargetMode="External"/><Relationship Id="rId5" Type="http://schemas.openxmlformats.org/officeDocument/2006/relationships/hyperlink" Target="http://www.nndb.com/people/618/000091345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hyperlink" Target="http://www.uen.org/Rubric/rubric.cgi?rubric_id=18775" TargetMode="External"/><Relationship Id="rId9" Type="http://schemas.openxmlformats.org/officeDocument/2006/relationships/slide" Target="slide8.xml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ndb.com/people/580/000072364/" TargetMode="External"/><Relationship Id="rId3" Type="http://schemas.openxmlformats.org/officeDocument/2006/relationships/hyperlink" Target="http://en.wikipedia.org/wiki/Louis_Pasteur" TargetMode="External"/><Relationship Id="rId4" Type="http://schemas.openxmlformats.org/officeDocument/2006/relationships/hyperlink" Target="http://en.wikipedia.org/wiki/Louis_Pasteur" TargetMode="External"/><Relationship Id="rId5" Type="http://schemas.openxmlformats.org/officeDocument/2006/relationships/hyperlink" Target="http://www.crivitz.k12.wi.us/matty/microbiology/scientists/louis_pasteur.htm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joseph_lister.htm" TargetMode="External"/><Relationship Id="rId3" Type="http://schemas.openxmlformats.org/officeDocument/2006/relationships/hyperlink" Target="http://www.nndb.com/people/597/000091324/" TargetMode="External"/><Relationship Id="rId4" Type="http://schemas.openxmlformats.org/officeDocument/2006/relationships/hyperlink" Target="http://en.wikipedia.org/wiki/Joseph_Lister" TargetMode="External"/><Relationship Id="rId5" Type="http://schemas.openxmlformats.org/officeDocument/2006/relationships/hyperlink" Target="http://en.wikipedia.org/wiki/Joseph_Lister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Heinrich_Anton_de_Bary" TargetMode="External"/><Relationship Id="rId3" Type="http://schemas.openxmlformats.org/officeDocument/2006/relationships/hyperlink" Target="http://en.wikipedia.org/wiki/Heinrich_Anton_de_Bary" TargetMode="External"/><Relationship Id="rId4" Type="http://schemas.openxmlformats.org/officeDocument/2006/relationships/hyperlink" Target="http://www.nndb.com/people/142/000096851/" TargetMode="External"/><Relationship Id="rId5" Type="http://schemas.openxmlformats.org/officeDocument/2006/relationships/hyperlink" Target="http://encarta.msn.com/encyclopedia_762511218/de_bary_heinrich_anton.html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Edward_Jenner" TargetMode="External"/><Relationship Id="rId3" Type="http://schemas.openxmlformats.org/officeDocument/2006/relationships/hyperlink" Target="http://en.wikipedia.org/wiki/Edward_Jenner" TargetMode="External"/><Relationship Id="rId4" Type="http://schemas.openxmlformats.org/officeDocument/2006/relationships/hyperlink" Target="http://en.wikipedia.org/wiki/Edward_Jenner" TargetMode="External"/><Relationship Id="rId5" Type="http://schemas.openxmlformats.org/officeDocument/2006/relationships/hyperlink" Target="http://en.wikipedia.org/wiki/Edward_Jenner" TargetMode="External"/><Relationship Id="rId6" Type="http://schemas.openxmlformats.org/officeDocument/2006/relationships/hyperlink" Target="http://en.wikipedia.org/wiki/Edward_Jenner" TargetMode="External"/><Relationship Id="rId7" Type="http://schemas.openxmlformats.org/officeDocument/2006/relationships/hyperlink" Target="http://en.wikipedia.org/wiki/Edward_Jenner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m.org/Articles/Ferdinand.html" TargetMode="External"/><Relationship Id="rId3" Type="http://schemas.openxmlformats.org/officeDocument/2006/relationships/hyperlink" Target="http://www.asm.org/Articles/Ferdinand.html" TargetMode="External"/><Relationship Id="rId4" Type="http://schemas.openxmlformats.org/officeDocument/2006/relationships/hyperlink" Target="http://en.wikipedia.org/wiki/Ferdinand_Cohn" TargetMode="External"/><Relationship Id="rId5" Type="http://schemas.openxmlformats.org/officeDocument/2006/relationships/hyperlink" Target="http://en.wikipedia.org/wiki/Ferdinand_Cohn" TargetMode="External"/><Relationship Id="rId6" Type="http://schemas.openxmlformats.org/officeDocument/2006/relationships/hyperlink" Target="http://www.answers.com/topic/ferdinand-cohn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bacteria.asp" TargetMode="External"/><Relationship Id="rId3" Type="http://schemas.openxmlformats.org/officeDocument/2006/relationships/hyperlink" Target="http://www.buzzle.com/articles/helpful-and-harmful-types-of-bacteria.html" TargetMode="External"/><Relationship Id="rId4" Type="http://schemas.openxmlformats.org/officeDocument/2006/relationships/hyperlink" Target="http://www.articlesbase.com/health-articles/these-are-some-of-the-helpful-bacteria-found-in-the-environment-around-us-356913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viruses.asp" TargetMode="External"/><Relationship Id="rId3" Type="http://schemas.openxmlformats.org/officeDocument/2006/relationships/hyperlink" Target="http://staff.tuhsd.k12.az.us/gfoster/standard/bvirus.htm" TargetMode="External"/><Relationship Id="rId4" Type="http://schemas.openxmlformats.org/officeDocument/2006/relationships/hyperlink" Target="http://www.factmonster.com/cig/dangerous-diseases-epidemics/influenza-twentieth-century-epidemic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protozoa.asp" TargetMode="External"/><Relationship Id="rId3" Type="http://schemas.openxmlformats.org/officeDocument/2006/relationships/hyperlink" Target="http://biog-101-104.bio.cornell.edu/BioG101_104/tutorials/protista.html" TargetMode="External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fungi.asp" TargetMode="External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en.org/Rubric/rubric.cgi?rubric_id=18775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ndwhere.swf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hyperlink" Target="http://www.uen.org/Rubric/rubric.cgi?rubric_id=1877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6.xml"/><Relationship Id="rId4" Type="http://schemas.openxmlformats.org/officeDocument/2006/relationships/slide" Target="slide37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ou be the Microbiologi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quest on helpful and harmful 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chelle O’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 D-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Edward Je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vacc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lexander Fle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taphylococci and discovering Penicil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Robert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Tuberculosis &amp;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ntony van Leeuwenh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microsc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Ferdinand C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lg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Joseph L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ntiseptic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1h_qiozr[1]"/>
          <p:cNvPicPr/>
          <p:nvPr/>
        </p:nvPicPr>
        <p:blipFill>
          <a:blip r:embed="rId7"/>
          <a:stretch/>
        </p:blipFill>
        <p:spPr>
          <a:xfrm>
            <a:off x="6858000" y="533520"/>
            <a:ext cx="179712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Heinrich Anton de B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m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1h_qiozr[1]"/>
          <p:cNvPicPr/>
          <p:nvPr/>
        </p:nvPicPr>
        <p:blipFill>
          <a:blip r:embed="rId7"/>
          <a:stretch/>
        </p:blipFill>
        <p:spPr>
          <a:xfrm>
            <a:off x="6705720" y="533520"/>
            <a:ext cx="179676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eeuwenhoe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microbiologis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355/00008709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/wiki/Leeuwen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lem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Alexander_Fl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crivitz.k12.wi.us/matty/microbiology/scientists/alexander_flemin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96/00009142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discovered 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Koch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robert_koc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Robert_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18/00009134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helped with Tuberculosis and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Junior Microbi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Dip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 action="ppaction://hlinksldjump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 action="ppaction://hlinksldjump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8"/>
              </a:rPr>
              <a:t>Evaluation/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9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j0305257"/>
          <p:cNvPicPr/>
          <p:nvPr/>
        </p:nvPicPr>
        <p:blipFill>
          <a:blip r:embed="rId10"/>
          <a:stretch/>
        </p:blipFill>
        <p:spPr>
          <a:xfrm>
            <a:off x="5181480" y="1143000"/>
            <a:ext cx="30355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asteu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nndb.com/people/580/00007236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Louis_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crivitz.k12.wi.us/matty/microbiology/scientists/louis_pasteu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pasteuriz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is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joseph_list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597/00009132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Joseph_L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 antise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on de Bar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Heinrich_Anton_de_B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nndb.com/people/142/0000968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encarta.msn.com/encyclopedia_762511218/de_bary_heinrich_ant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smut and/or slime m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Jenn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vacc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>
            <a:hlinkClick r:id="rId8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Coh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www.asm.org/Articles/Ferdinan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Ferdinand_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www.answers.com/topic/ferdinand-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Bacteri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bacteria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buzzle.com/articles/helpful-and-harmful-types-of-bacter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articlesbase.com/health-articles/these-are-some-of-the-helpful-bacteria-found-in-the-environment-around-us-3569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bac"/>
          <p:cNvPicPr/>
          <p:nvPr/>
        </p:nvPicPr>
        <p:blipFill>
          <a:blip r:embed="rId6"/>
          <a:stretch/>
        </p:blipFill>
        <p:spPr>
          <a:xfrm>
            <a:off x="5638680" y="48006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Viru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viruses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staff.tuhsd.k12.az.us/gfoster/standard/bviru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factmonster.com/cig/dangerous-diseases-epidemics/influenza-twentieth-century-epidemi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viruses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virus_anat"/>
          <p:cNvPicPr/>
          <p:nvPr/>
        </p:nvPicPr>
        <p:blipFill>
          <a:blip r:embed="rId6"/>
          <a:stretch/>
        </p:blipFill>
        <p:spPr>
          <a:xfrm>
            <a:off x="6172200" y="4800600"/>
            <a:ext cx="1789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rotis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protozoa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biog-101-104.bio.cornell.edu/BioG101_104/tutorials/protist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is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4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Loxodes"/>
          <p:cNvPicPr/>
          <p:nvPr/>
        </p:nvPicPr>
        <p:blipFill>
          <a:blip r:embed="rId5"/>
          <a:stretch/>
        </p:blipFill>
        <p:spPr>
          <a:xfrm>
            <a:off x="5867280" y="4876920"/>
            <a:ext cx="281952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ungi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fungi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xtension.iastate.edu/news/2006/jan/0718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er.tamu.edu/curriculum_modules/Properties/Module_1/Activity_fung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fungi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ifrpcpqb[1]"/>
          <p:cNvPicPr/>
          <p:nvPr/>
        </p:nvPicPr>
        <p:blipFill>
          <a:blip r:embed="rId4"/>
          <a:stretch/>
        </p:blipFill>
        <p:spPr>
          <a:xfrm>
            <a:off x="6019920" y="4876920"/>
            <a:ext cx="2438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re you looking for a challenge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became a microbiologist test your knowledge by looking at the following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urther research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cientist that studies microorganisms is called a microbiologi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 and your teammates will become microbiologis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r goal is to do research and activities that will help you answe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s below in a PowerPoint format.  The PowerPoint will be presented to your mentor and posted on the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the world benefit from both helpful and harmful microorganisms? Why should we continue to research these micro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76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is complaining about a rash on their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very dry and it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8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only on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multiplies, it gives off carbon dioxid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58444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3"/>
          <a:stretch/>
        </p:blipFill>
        <p:spPr>
          <a:xfrm>
            <a:off x="1676520" y="4267080"/>
            <a:ext cx="2058840" cy="19814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5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breaking down organic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urning to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1182600" y="263700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0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icture of the inside of someone’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throat hu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990720" y="2638440"/>
            <a:ext cx="4002120" cy="30178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just visited Africa and got some mosquito b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headaches and a high f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1192320" y="2017800"/>
            <a:ext cx="378936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1523880" y="4038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0" y="4800600"/>
            <a:ext cx="1219320" cy="946440"/>
          </a:xfrm>
          <a:prstGeom prst="rect">
            <a:avLst/>
          </a:prstGeom>
          <a:solidFill>
            <a:srgbClr val="c47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s seen under micro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aking in carbon dioxide and putting 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also limit light and oxygen from marine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is complaining of itchy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4203720" cy="309240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has a high fever and a c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your Junior Microbiology Dipl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: be part of a group of specia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s, Bacteriologists, Mycologists or Parasitolog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 PowerPoint about your findings and why your team should be funded for furt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2"/>
          </p:cNvPr>
          <p:cNvSpPr/>
          <p:nvPr/>
        </p:nvSpPr>
        <p:spPr>
          <a:xfrm>
            <a:off x="4191120" y="5943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Junior Microbiology Diplom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icrobeworld.or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upper left corner click “about microbiolog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irst link “what is a microbe”. In this part read every section and subsection and summarize your readings by posting the important data as a Wiki (pictures and videoclips are welcom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 and do the activity.  Print your table when you are done.  Get 100% on the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Lucida Grande"/>
                <a:hlinkClick r:id="rId2"/>
              </a:rPr>
              <a:t>http://www.childrensuniversity.manchester.ac.uk/interactives/science/microorganisms/whatandwhere.s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ol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click on your specialty gro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1066680" y="2590920"/>
            <a:ext cx="3154320" cy="609480"/>
          </a:xfrm>
          <a:custGeom>
            <a:avLst/>
            <a:gdLst>
              <a:gd name="textAreaLeft" fmla="*/ 39240 w 3154320"/>
              <a:gd name="textAreaRight" fmla="*/ 3115080 w 315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1736" h="21600">
                <a:moveTo>
                  <a:pt x="0" y="0"/>
                </a:moveTo>
                <a:lnTo>
                  <a:pt x="111736" y="0"/>
                </a:lnTo>
                <a:lnTo>
                  <a:pt x="111736" y="21600"/>
                </a:lnTo>
                <a:lnTo>
                  <a:pt x="0" y="21600"/>
                </a:lnTo>
                <a:close/>
              </a:path>
              <a:path fill="lightenLess" w="111736" h="21600">
                <a:moveTo>
                  <a:pt x="0" y="0"/>
                </a:moveTo>
                <a:lnTo>
                  <a:pt x="111736" y="0"/>
                </a:lnTo>
                <a:lnTo>
                  <a:pt x="110336" y="1400"/>
                </a:lnTo>
                <a:lnTo>
                  <a:pt x="1400" y="1400"/>
                </a:lnTo>
                <a:close/>
              </a:path>
              <a:path fill="darken" w="111736" h="21600">
                <a:moveTo>
                  <a:pt x="111736" y="0"/>
                </a:moveTo>
                <a:lnTo>
                  <a:pt x="111736" y="21600"/>
                </a:lnTo>
                <a:lnTo>
                  <a:pt x="110336" y="20200"/>
                </a:lnTo>
                <a:lnTo>
                  <a:pt x="110336" y="1400"/>
                </a:lnTo>
                <a:close/>
              </a:path>
              <a:path fill="darkenLess" w="111736" h="21600">
                <a:moveTo>
                  <a:pt x="111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336" y="20200"/>
                </a:lnTo>
                <a:close/>
              </a:path>
              <a:path fill="lighten" w="111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>
            <a:hlinkClick r:id="rId3" action="ppaction://hlinksldjump"/>
          </p:cNvPr>
          <p:cNvSpPr/>
          <p:nvPr/>
        </p:nvSpPr>
        <p:spPr>
          <a:xfrm>
            <a:off x="10666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>
            <a:hlinkClick r:id="rId4" action="ppaction://hlinksldjump"/>
          </p:cNvPr>
          <p:cNvSpPr/>
          <p:nvPr/>
        </p:nvSpPr>
        <p:spPr>
          <a:xfrm>
            <a:off x="5181480" y="2590920"/>
            <a:ext cx="3124440" cy="609480"/>
          </a:xfrm>
          <a:custGeom>
            <a:avLst/>
            <a:gdLst>
              <a:gd name="textAreaLeft" fmla="*/ 39240 w 3124440"/>
              <a:gd name="textAreaRight" fmla="*/ 3085200 w 312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78" h="21600">
                <a:moveTo>
                  <a:pt x="0" y="0"/>
                </a:moveTo>
                <a:lnTo>
                  <a:pt x="110678" y="0"/>
                </a:lnTo>
                <a:lnTo>
                  <a:pt x="110678" y="21600"/>
                </a:lnTo>
                <a:lnTo>
                  <a:pt x="0" y="21600"/>
                </a:lnTo>
                <a:close/>
              </a:path>
              <a:path fill="lightenLess" w="110678" h="21600">
                <a:moveTo>
                  <a:pt x="0" y="0"/>
                </a:moveTo>
                <a:lnTo>
                  <a:pt x="110678" y="0"/>
                </a:lnTo>
                <a:lnTo>
                  <a:pt x="109278" y="1400"/>
                </a:lnTo>
                <a:lnTo>
                  <a:pt x="1400" y="1400"/>
                </a:lnTo>
                <a:close/>
              </a:path>
              <a:path fill="darken" w="110678" h="21600">
                <a:moveTo>
                  <a:pt x="110678" y="0"/>
                </a:moveTo>
                <a:lnTo>
                  <a:pt x="110678" y="21600"/>
                </a:lnTo>
                <a:lnTo>
                  <a:pt x="109278" y="20200"/>
                </a:lnTo>
                <a:lnTo>
                  <a:pt x="109278" y="1400"/>
                </a:lnTo>
                <a:close/>
              </a:path>
              <a:path fill="darkenLess" w="110678" h="21600">
                <a:moveTo>
                  <a:pt x="11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78" y="20200"/>
                </a:lnTo>
                <a:close/>
              </a:path>
              <a:path fill="lighten" w="11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rId5" action="ppaction://hlinksldjump"/>
          </p:cNvPr>
          <p:cNvSpPr/>
          <p:nvPr/>
        </p:nvSpPr>
        <p:spPr>
          <a:xfrm>
            <a:off x="51814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6" action="ppaction://hlinksldjump"/>
          </p:cNvPr>
          <p:cNvSpPr/>
          <p:nvPr/>
        </p:nvSpPr>
        <p:spPr>
          <a:xfrm>
            <a:off x="10666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7" action="ppaction://hlinksldjump"/>
          </p:cNvPr>
          <p:cNvSpPr/>
          <p:nvPr/>
        </p:nvSpPr>
        <p:spPr>
          <a:xfrm>
            <a:off x="10666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rId8" action="ppaction://hlinksldjump"/>
          </p:cNvPr>
          <p:cNvSpPr/>
          <p:nvPr/>
        </p:nvSpPr>
        <p:spPr>
          <a:xfrm>
            <a:off x="51814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>
            <a:hlinkClick r:id="rId9" action="ppaction://hlinksldjump"/>
          </p:cNvPr>
          <p:cNvSpPr/>
          <p:nvPr/>
        </p:nvSpPr>
        <p:spPr>
          <a:xfrm>
            <a:off x="51814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>
            <a:hlinkClick r:id="rId10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include transitions, sounds, pictures and hyperlinks, but emphasize on the content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r more pages/slides on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information on your specialt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cientist and why they are important (Scientist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microorganisms (Help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microorganisms (Harm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a specific microbe (Microbe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lide to persuade committee to fund furthe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rubric to make sure you have all tha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/>
          </p:cNvPr>
          <p:cNvSpPr/>
          <p:nvPr/>
        </p:nvSpPr>
        <p:spPr>
          <a:xfrm>
            <a:off x="2971800" y="5791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atulations!  You have completed a junior diploma of microbiology and experienced the importance of microbiologists!  Wow, to those of you that convinced the committee to fund your research.  Time to make the world a safer pl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Louis Pas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pasteur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3:29:32Z</dcterms:created>
  <dc:creator>ASD Teacher</dc:creator>
  <dc:description/>
  <dc:language>en-US</dc:language>
  <cp:lastModifiedBy>Nitzan Resnick</cp:lastModifiedBy>
  <dcterms:modified xsi:type="dcterms:W3CDTF">2009-08-13T13:06:32Z</dcterms:modified>
  <cp:revision>52</cp:revision>
  <dc:subject/>
  <dc:title>You are the Microbiologist</dc:title>
</cp:coreProperties>
</file>