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758-41A7-4E2B-ACC4-31D1B482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D1E1-A399-4291-96B7-97BE9A5B8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E46D-22E3-4506-836C-BDF33879C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CD19-551C-46AD-AFEC-4DCB722B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50F4-E5B9-47ED-8691-D33C97A2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F539-C023-4EDC-A257-6A8164775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1C8E-779B-4233-A9C0-8587B0D0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08E2-E6ED-46E2-A983-AAFADC5E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A0A2-E50B-4F14-9AC5-C6A1F1B2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9F86-777E-41BD-894B-714AFCAE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CE29-B56C-435C-B2C4-19DA82AC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6A29-1718-4711-A7E0-CC7AD788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7A90-886F-4FA0-ACBC-4739CAF8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96B5-CA8A-4992-A076-D277EC087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94A6-1E73-4681-A9C2-578128CA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1B27-EE1B-45FA-AC60-3546D500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F55-DE2F-4E04-A904-B1495BF5F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2E21-BF04-4F68-A78B-A913B3B56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4E10-0A0F-4DB6-B578-11FEF2A8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07C5-BAD7-4D1A-93C6-ABD4ED26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442B-95AB-4D0E-A200-6F23034B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B166-38FE-4EF7-8F4F-46E039BC3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2187-A0AF-4778-907E-5A4C8E300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22AA-F380-4651-85A6-ED613012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449B-5B3C-406C-B69A-BB741DCED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83F2-2B6D-42F8-8F8D-B0E5C0B06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963F-7FA0-4EDE-BD62-FF9B60A11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8A0-C9BC-4EDD-A7EC-0AE14311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559C-C5A0-486E-B1A0-87A8F641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2266-6742-4B99-AD76-3127F4C88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13EF-1347-4271-BF14-3D2E7FFC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F4EA-D92A-40FE-AD19-6B3E1FA7B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0C2A-AE6C-4D1B-B813-1765E9CD1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8833-6055-4E54-A1D3-1883DABA3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917E-22D6-475A-A55D-E747521B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E89F-E5CB-4CE2-BE69-99171AAB6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3C72-DDCC-4E27-846B-47F71DAC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024-CDC0-45C0-A799-0DB26413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2B8-78BE-4A61-8360-737F6927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FFE-2087-4245-91B7-8B72FF2E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EEF-EB7A-4910-B94A-8205DCA3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532B-6C43-4577-825B-BBAED0F6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1F31-4120-4847-A1E8-28BE86D5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5D7D-53F3-48EC-A920-659AC692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AD51-A326-4362-AA28-6701CCC7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1719-BF9A-43F0-948C-8BAE9332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33CB-44AF-459D-AC3C-ACEC9563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87BC-059B-4C8A-B07E-758EABC9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925-3E0F-4E0B-B177-72ED31FA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8A22-4BED-416C-B61A-3874E254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3437-2C55-4C6E-B8E3-7B61734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581E-D1F9-4A58-A67F-4E013C6F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E965-D048-4B62-A09A-E17772AC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CC4F-DB2C-44C8-A53E-F2FAB2FB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28E-3B26-4402-9279-CCF774F6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621-32F3-43B5-9441-D2D48976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E45-3E6E-44C6-8D6F-6ECF3CAB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8DD-3B11-426C-88D3-00F6614C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2D5-5D39-47C3-9A67-639C269E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A92-D818-454E-8C10-372E9302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DA3-AB89-4118-AABC-22D727CB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F024-32B2-4D36-BB1A-CD9FFD983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76b74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4b4eb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59D9-2572-4825-A532-E89BC5DBF0A9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" Target="slide36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25.xml"/><Relationship Id="rId4" Type="http://schemas.openxmlformats.org/officeDocument/2006/relationships/slide" Target="slide33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5.xml"/><Relationship Id="rId4" Type="http://schemas.openxmlformats.org/officeDocument/2006/relationships/slide" Target="slide32.xml"/><Relationship Id="rId5" Type="http://schemas.openxmlformats.org/officeDocument/2006/relationships/slide" Target="slide25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27.xml"/><Relationship Id="rId4" Type="http://schemas.openxmlformats.org/officeDocument/2006/relationships/slide" Target="slide35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7.xml"/><Relationship Id="rId4" Type="http://schemas.openxmlformats.org/officeDocument/2006/relationships/slide" Target="slide34.xml"/><Relationship Id="rId5" Type="http://schemas.openxmlformats.org/officeDocument/2006/relationships/slide" Target="slide27.xml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8.xml"/><Relationship Id="rId4" Type="http://schemas.openxmlformats.org/officeDocument/2006/relationships/slide" Target="slide30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31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microbiologists.htm" TargetMode="External"/><Relationship Id="rId3" Type="http://schemas.openxmlformats.org/officeDocument/2006/relationships/hyperlink" Target="http://www.nndb.com/people/355/000087094/" TargetMode="External"/><Relationship Id="rId4" Type="http://schemas.openxmlformats.org/officeDocument/2006/relationships/hyperlink" Target="http://en.wikipedia.org/wiki/Leeuwenhoek" TargetMode="External"/><Relationship Id="rId5" Type="http://schemas.openxmlformats.org/officeDocument/2006/relationships/hyperlink" Target="http://en.wikipedia.org/wiki/Leeuwenhoek" TargetMode="External"/><Relationship Id="rId6" Type="http://schemas.openxmlformats.org/officeDocument/2006/relationships/hyperlink" Target="http://en.wikipedia.org/wiki/Leeuwenhoek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Alexander_Fleming" TargetMode="External"/><Relationship Id="rId3" Type="http://schemas.openxmlformats.org/officeDocument/2006/relationships/hyperlink" Target="http://en.wikipedia.org/wiki/Alexander_Fleming" TargetMode="External"/><Relationship Id="rId4" Type="http://schemas.openxmlformats.org/officeDocument/2006/relationships/hyperlink" Target="http://www.crivitz.k12.wi.us/matty/microbiology/scientists/alexander_fleming.htm" TargetMode="External"/><Relationship Id="rId5" Type="http://schemas.openxmlformats.org/officeDocument/2006/relationships/hyperlink" Target="http://www.nndb.com/people/696/000091423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robert_koch.htm" TargetMode="External"/><Relationship Id="rId3" Type="http://schemas.openxmlformats.org/officeDocument/2006/relationships/hyperlink" Target="http://en.wikipedia.org/wiki/Robert_Koch" TargetMode="External"/><Relationship Id="rId4" Type="http://schemas.openxmlformats.org/officeDocument/2006/relationships/hyperlink" Target="http://en.wikipedia.org/wiki/Robert_Koch" TargetMode="External"/><Relationship Id="rId5" Type="http://schemas.openxmlformats.org/officeDocument/2006/relationships/hyperlink" Target="http://www.nndb.com/people/618/000091345/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hyperlink" Target="http://www.uen.org/Rubric/rubric.cgi?rubric_id=18775" TargetMode="External"/><Relationship Id="rId9" Type="http://schemas.openxmlformats.org/officeDocument/2006/relationships/slide" Target="slide8.xml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ndb.com/people/580/000072364/" TargetMode="External"/><Relationship Id="rId3" Type="http://schemas.openxmlformats.org/officeDocument/2006/relationships/hyperlink" Target="http://en.wikipedia.org/wiki/Louis_Pasteur" TargetMode="External"/><Relationship Id="rId4" Type="http://schemas.openxmlformats.org/officeDocument/2006/relationships/hyperlink" Target="http://en.wikipedia.org/wiki/Louis_Pasteur" TargetMode="External"/><Relationship Id="rId5" Type="http://schemas.openxmlformats.org/officeDocument/2006/relationships/hyperlink" Target="http://www.crivitz.k12.wi.us/matty/microbiology/scientists/louis_pasteur.htm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vitz.k12.wi.us/matty/microbiology/scientists/joseph_lister.htm" TargetMode="External"/><Relationship Id="rId3" Type="http://schemas.openxmlformats.org/officeDocument/2006/relationships/hyperlink" Target="http://www.nndb.com/people/597/000091324/" TargetMode="External"/><Relationship Id="rId4" Type="http://schemas.openxmlformats.org/officeDocument/2006/relationships/hyperlink" Target="http://en.wikipedia.org/wiki/Joseph_Lister" TargetMode="External"/><Relationship Id="rId5" Type="http://schemas.openxmlformats.org/officeDocument/2006/relationships/hyperlink" Target="http://en.wikipedia.org/wiki/Joseph_Lister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Heinrich_Anton_de_Bary" TargetMode="External"/><Relationship Id="rId3" Type="http://schemas.openxmlformats.org/officeDocument/2006/relationships/hyperlink" Target="http://en.wikipedia.org/wiki/Heinrich_Anton_de_Bary" TargetMode="External"/><Relationship Id="rId4" Type="http://schemas.openxmlformats.org/officeDocument/2006/relationships/hyperlink" Target="http://www.nndb.com/people/142/000096851/" TargetMode="External"/><Relationship Id="rId5" Type="http://schemas.openxmlformats.org/officeDocument/2006/relationships/hyperlink" Target="http://encarta.msn.com/encyclopedia_762511218/de_bary_heinrich_anton.html" TargetMode="Externa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Edward_Jenner" TargetMode="External"/><Relationship Id="rId3" Type="http://schemas.openxmlformats.org/officeDocument/2006/relationships/hyperlink" Target="http://en.wikipedia.org/wiki/Edward_Jenner" TargetMode="External"/><Relationship Id="rId4" Type="http://schemas.openxmlformats.org/officeDocument/2006/relationships/hyperlink" Target="http://en.wikipedia.org/wiki/Edward_Jenner" TargetMode="External"/><Relationship Id="rId5" Type="http://schemas.openxmlformats.org/officeDocument/2006/relationships/hyperlink" Target="http://en.wikipedia.org/wiki/Edward_Jenner" TargetMode="External"/><Relationship Id="rId6" Type="http://schemas.openxmlformats.org/officeDocument/2006/relationships/hyperlink" Target="http://en.wikipedia.org/wiki/Edward_Jenner" TargetMode="External"/><Relationship Id="rId7" Type="http://schemas.openxmlformats.org/officeDocument/2006/relationships/hyperlink" Target="http://en.wikipedia.org/wiki/Edward_Jenner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m.org/Articles/Ferdinand.html" TargetMode="External"/><Relationship Id="rId3" Type="http://schemas.openxmlformats.org/officeDocument/2006/relationships/hyperlink" Target="http://www.asm.org/Articles/Ferdinand.html" TargetMode="External"/><Relationship Id="rId4" Type="http://schemas.openxmlformats.org/officeDocument/2006/relationships/hyperlink" Target="http://en.wikipedia.org/wiki/Ferdinand_Cohn" TargetMode="External"/><Relationship Id="rId5" Type="http://schemas.openxmlformats.org/officeDocument/2006/relationships/hyperlink" Target="http://en.wikipedia.org/wiki/Ferdinand_Cohn" TargetMode="External"/><Relationship Id="rId6" Type="http://schemas.openxmlformats.org/officeDocument/2006/relationships/hyperlink" Target="http://www.answers.com/topic/ferdinand-cohn" TargetMode="Externa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bacteria.asp" TargetMode="External"/><Relationship Id="rId3" Type="http://schemas.openxmlformats.org/officeDocument/2006/relationships/hyperlink" Target="http://www.buzzle.com/articles/helpful-and-harmful-types-of-bacteria.html" TargetMode="External"/><Relationship Id="rId4" Type="http://schemas.openxmlformats.org/officeDocument/2006/relationships/hyperlink" Target="http://www.articlesbase.com/health-articles/these-are-some-of-the-helpful-bacteria-found-in-the-environment-around-us-356913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viruses.asp" TargetMode="External"/><Relationship Id="rId3" Type="http://schemas.openxmlformats.org/officeDocument/2006/relationships/hyperlink" Target="http://staff.tuhsd.k12.az.us/gfoster/standard/bvirus.htm" TargetMode="External"/><Relationship Id="rId4" Type="http://schemas.openxmlformats.org/officeDocument/2006/relationships/hyperlink" Target="http://www.factmonster.com/cig/dangerous-diseases-epidemics/influenza-twentieth-century-epidemic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protozoa.asp" TargetMode="External"/><Relationship Id="rId3" Type="http://schemas.openxmlformats.org/officeDocument/2006/relationships/hyperlink" Target="http://biog-101-104.bio.cornell.edu/BioG101_104/tutorials/protista.html" TargetMode="External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refungi.asp" TargetMode="External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Arr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file:///tmp/home/.config/libreoffice/4/user/gallery/Arro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en.org/Rubric/rubric.cgi?rubric_id=18775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drensuniversity.manchester.ac.uk/interactives/science/microorganisms/whatandwhere.swf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hyperlink" Target="http://www.uen.org/Rubric/rubric.cgi?rubric_id=1877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6.xml"/><Relationship Id="rId4" Type="http://schemas.openxmlformats.org/officeDocument/2006/relationships/slide" Target="slide37.xml"/><Relationship Id="rId5" Type="http://schemas.openxmlformats.org/officeDocument/2006/relationships/slide" Target="slide26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ou be the Microbiologis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quest on helpful and harmful 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chelle O’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 D-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Edward Je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vacc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lexander Fle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taphylococci and discovering Penicil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acteri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Robert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Tuberculosis &amp;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bacteri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bacteria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Streptococci"/>
          <p:cNvPicPr/>
          <p:nvPr/>
        </p:nvPicPr>
        <p:blipFill>
          <a:blip r:embed="rId7"/>
          <a:srcRect l="0" t="-20795" r="-29219" b="0"/>
          <a:stretch/>
        </p:blipFill>
        <p:spPr>
          <a:xfrm>
            <a:off x="7508880" y="0"/>
            <a:ext cx="1635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Antony van Leeuwenh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microsc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otista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Ferdinand C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lg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study of protists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protist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Amoeba"/>
          <p:cNvPicPr/>
          <p:nvPr/>
        </p:nvPicPr>
        <p:blipFill>
          <a:blip r:embed="rId7"/>
          <a:stretch/>
        </p:blipFill>
        <p:spPr>
          <a:xfrm>
            <a:off x="6705720" y="3049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Joseph L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antiseptic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1h_qiozr[1]"/>
          <p:cNvPicPr/>
          <p:nvPr/>
        </p:nvPicPr>
        <p:blipFill>
          <a:blip r:embed="rId7"/>
          <a:stretch/>
        </p:blipFill>
        <p:spPr>
          <a:xfrm>
            <a:off x="6858000" y="533520"/>
            <a:ext cx="179712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ycologist  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Heinrich Anton de B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sm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the myc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5120" y="2017440"/>
            <a:ext cx="3998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may need your table from your dipl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fungi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1h_qiozr[1]"/>
          <p:cNvPicPr/>
          <p:nvPr/>
        </p:nvPicPr>
        <p:blipFill>
          <a:blip r:embed="rId7"/>
          <a:stretch/>
        </p:blipFill>
        <p:spPr>
          <a:xfrm>
            <a:off x="6705720" y="533520"/>
            <a:ext cx="179676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eeuwenhoe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microbiologis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355/00008709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/wiki/Leeuwen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lem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Alexander_Fl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crivitz.k12.wi.us/matty/microbiology/scientists/alexander_flemin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96/00009142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discovered Penicil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Koch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robert_koc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Robert_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nndb.com/people/618/00009134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how he helped with Tuberculosis and 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Junior Microbi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Dip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 action="ppaction://hlinksldjump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 action="ppaction://hlinksldjump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8"/>
              </a:rPr>
              <a:t>Evaluation/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  <a:hlinkClick r:id="rId9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j0305257"/>
          <p:cNvPicPr/>
          <p:nvPr/>
        </p:nvPicPr>
        <p:blipFill>
          <a:blip r:embed="rId10"/>
          <a:stretch/>
        </p:blipFill>
        <p:spPr>
          <a:xfrm>
            <a:off x="5181480" y="1143000"/>
            <a:ext cx="30355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asteu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nndb.com/people/580/00007236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en.wikipedia.org/wiki/Louis_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www.crivitz.k12.wi.us/matty/microbiology/scientists/louis_pasteu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e pasteuriz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List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rivitz.k12.wi.us/matty/microbiology/scientists/joseph_list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nndb.com/people/597/00009132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Joseph_L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 antise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on de Bar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Heinrich_Anton_de_B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nndb.com/people/142/0000968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http://encarta.msn.com/encyclopedia_762511218/de_bary_heinrich_ant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smut and/or slime m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Jenner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7"/>
              </a:rPr>
              <a:t>en.wikipedia.org/wiki/Edward_J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vacc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>
            <a:hlinkClick r:id="rId8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Coh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www.asm.org/Articles/Ferdinan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en.wikipedia.org/wiki/Ferdinand_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6"/>
              </a:rPr>
              <a:t>http://www.answers.com/topic/ferdinand-c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acts on microb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r scientist contribute positively to microbi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>
            <a:hlinkClick r:id="rId7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Bacteri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bacteria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www.buzzle.com/articles/helpful-and-harmful-types-of-bacter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articlesbase.com/health-articles/these-are-some-of-the-helpful-bacteria-found-in-the-environment-around-us-3569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bac"/>
          <p:cNvPicPr/>
          <p:nvPr/>
        </p:nvPicPr>
        <p:blipFill>
          <a:blip r:embed="rId6"/>
          <a:stretch/>
        </p:blipFill>
        <p:spPr>
          <a:xfrm>
            <a:off x="5638680" y="48006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Virus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viruses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staff.tuhsd.k12.az.us/gfoster/standard/bviru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http://www.factmonster.com/cig/dangerous-diseases-epidemics/influenza-twentieth-century-epidemi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viruses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rId5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virus_anat"/>
          <p:cNvPicPr/>
          <p:nvPr/>
        </p:nvPicPr>
        <p:blipFill>
          <a:blip r:embed="rId6"/>
          <a:stretch/>
        </p:blipFill>
        <p:spPr>
          <a:xfrm>
            <a:off x="6172200" y="4800600"/>
            <a:ext cx="1789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Protis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protozoa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http://biog-101-104.bio.cornell.edu/BioG101_104/tutorials/protist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bacteria is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4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Loxodes"/>
          <p:cNvPicPr/>
          <p:nvPr/>
        </p:nvPicPr>
        <p:blipFill>
          <a:blip r:embed="rId5"/>
          <a:stretch/>
        </p:blipFill>
        <p:spPr>
          <a:xfrm>
            <a:off x="5867280" y="4876920"/>
            <a:ext cx="281952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ebsites for Fungi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http://www.childrensuniversity.manchester.ac.uk/interactives/science/microorganisms/whatarefungi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xtension.iastate.edu/news/2006/jan/0718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er.tamu.edu/curriculum_modules/Properties/Module_1/Activity_fung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ow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examples of how fungi are helpful or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to know this?  How can it help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ifrpcpqb[1]"/>
          <p:cNvPicPr/>
          <p:nvPr/>
        </p:nvPicPr>
        <p:blipFill>
          <a:blip r:embed="rId4"/>
          <a:stretch/>
        </p:blipFill>
        <p:spPr>
          <a:xfrm>
            <a:off x="6019920" y="4876920"/>
            <a:ext cx="2438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re you looking for a challenge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became a microbiologist test your knowledge by looking at the following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urther research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cientist that studies microorganisms is called a microbiologi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 and your teammates will become microbiologis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r goal is to do research and activities that will help you answe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s below in a PowerPoint format.  The PowerPoint will be presented to your mentor and posted on the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the world benefit from both helpful and harmful microorganisms? Why should we continue to research these micro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76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is complaining about a rash on their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very dry and it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8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only on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multiplies, it gives off carbon dioxid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58444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3"/>
          <a:stretch/>
        </p:blipFill>
        <p:spPr>
          <a:xfrm>
            <a:off x="1676520" y="4267080"/>
            <a:ext cx="2058840" cy="19814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5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breaking down organic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urning to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1182600" y="263700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0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icture of the inside of someone’s 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throat hu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990720" y="2638440"/>
            <a:ext cx="4002120" cy="30178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just visited Africa and got some mosquito b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headaches and a high f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1192320" y="2017800"/>
            <a:ext cx="378936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1523880" y="4038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0" y="4800600"/>
            <a:ext cx="1219320" cy="946440"/>
          </a:xfrm>
          <a:prstGeom prst="rect">
            <a:avLst/>
          </a:prstGeom>
          <a:solidFill>
            <a:srgbClr val="c47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blood cells seen under micro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>
            <a:hlinkClick r:id="rId4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aking in carbon dioxide and putting 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also limit light and oxygen from marine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is complaining of itchy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4203720" cy="309240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erson has a high fever and a c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mpy rash is all over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table from diploma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ew websites to research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werPoint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d scientif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it helpful and/o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9">
            <a:hlinkClick r:id="rId3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your Junior Microbiology Dipl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: be part of a group of specia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s, Bacteriologists, Mycologists or Parasitolog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 PowerPoint about your findings and why your team should be funded for furth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2"/>
          </p:cNvPr>
          <p:cNvSpPr/>
          <p:nvPr/>
        </p:nvSpPr>
        <p:spPr>
          <a:xfrm>
            <a:off x="4191120" y="5943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Junior Microbiology Diplom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icrobeworld.or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upper left corner click “about microbiolog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irst link “what is a microbe”. In this part read every section and subsection and summarize your readings by posting the important data as a Wiki (pictures and videoclips are welcom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following website and do the activity.  Print your table when you are done.  Get 100% on the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ff"/>
                </a:solidFill>
                <a:uFillTx/>
                <a:latin typeface="Lucida Grande"/>
                <a:hlinkClick r:id="rId2"/>
              </a:rPr>
              <a:t>http://www.childrensuniversity.manchester.ac.uk/interactives/science/microorganisms/whatandwhere.s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ol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click on your specialty gro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1066680" y="2590920"/>
            <a:ext cx="3154320" cy="609480"/>
          </a:xfrm>
          <a:custGeom>
            <a:avLst/>
            <a:gdLst>
              <a:gd name="textAreaLeft" fmla="*/ 39240 w 3154320"/>
              <a:gd name="textAreaRight" fmla="*/ 3115080 w 315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1736" h="21600">
                <a:moveTo>
                  <a:pt x="0" y="0"/>
                </a:moveTo>
                <a:lnTo>
                  <a:pt x="111736" y="0"/>
                </a:lnTo>
                <a:lnTo>
                  <a:pt x="111736" y="21600"/>
                </a:lnTo>
                <a:lnTo>
                  <a:pt x="0" y="21600"/>
                </a:lnTo>
                <a:close/>
              </a:path>
              <a:path fill="lightenLess" w="111736" h="21600">
                <a:moveTo>
                  <a:pt x="0" y="0"/>
                </a:moveTo>
                <a:lnTo>
                  <a:pt x="111736" y="0"/>
                </a:lnTo>
                <a:lnTo>
                  <a:pt x="110336" y="1400"/>
                </a:lnTo>
                <a:lnTo>
                  <a:pt x="1400" y="1400"/>
                </a:lnTo>
                <a:close/>
              </a:path>
              <a:path fill="darken" w="111736" h="21600">
                <a:moveTo>
                  <a:pt x="111736" y="0"/>
                </a:moveTo>
                <a:lnTo>
                  <a:pt x="111736" y="21600"/>
                </a:lnTo>
                <a:lnTo>
                  <a:pt x="110336" y="20200"/>
                </a:lnTo>
                <a:lnTo>
                  <a:pt x="110336" y="1400"/>
                </a:lnTo>
                <a:close/>
              </a:path>
              <a:path fill="darkenLess" w="111736" h="21600">
                <a:moveTo>
                  <a:pt x="111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336" y="20200"/>
                </a:lnTo>
                <a:close/>
              </a:path>
              <a:path fill="lighten" w="111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>
            <a:hlinkClick r:id="rId3" action="ppaction://hlinksldjump"/>
          </p:cNvPr>
          <p:cNvSpPr/>
          <p:nvPr/>
        </p:nvSpPr>
        <p:spPr>
          <a:xfrm>
            <a:off x="10666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ologist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>
            <a:hlinkClick r:id="rId4" action="ppaction://hlinksldjump"/>
          </p:cNvPr>
          <p:cNvSpPr/>
          <p:nvPr/>
        </p:nvSpPr>
        <p:spPr>
          <a:xfrm>
            <a:off x="5181480" y="2590920"/>
            <a:ext cx="3124440" cy="609480"/>
          </a:xfrm>
          <a:custGeom>
            <a:avLst/>
            <a:gdLst>
              <a:gd name="textAreaLeft" fmla="*/ 39240 w 3124440"/>
              <a:gd name="textAreaRight" fmla="*/ 3085200 w 312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78" h="21600">
                <a:moveTo>
                  <a:pt x="0" y="0"/>
                </a:moveTo>
                <a:lnTo>
                  <a:pt x="110678" y="0"/>
                </a:lnTo>
                <a:lnTo>
                  <a:pt x="110678" y="21600"/>
                </a:lnTo>
                <a:lnTo>
                  <a:pt x="0" y="21600"/>
                </a:lnTo>
                <a:close/>
              </a:path>
              <a:path fill="lightenLess" w="110678" h="21600">
                <a:moveTo>
                  <a:pt x="0" y="0"/>
                </a:moveTo>
                <a:lnTo>
                  <a:pt x="110678" y="0"/>
                </a:lnTo>
                <a:lnTo>
                  <a:pt x="109278" y="1400"/>
                </a:lnTo>
                <a:lnTo>
                  <a:pt x="1400" y="1400"/>
                </a:lnTo>
                <a:close/>
              </a:path>
              <a:path fill="darken" w="110678" h="21600">
                <a:moveTo>
                  <a:pt x="110678" y="0"/>
                </a:moveTo>
                <a:lnTo>
                  <a:pt x="110678" y="21600"/>
                </a:lnTo>
                <a:lnTo>
                  <a:pt x="109278" y="20200"/>
                </a:lnTo>
                <a:lnTo>
                  <a:pt x="109278" y="1400"/>
                </a:lnTo>
                <a:close/>
              </a:path>
              <a:path fill="darkenLess" w="110678" h="21600">
                <a:moveTo>
                  <a:pt x="11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78" y="20200"/>
                </a:lnTo>
                <a:close/>
              </a:path>
              <a:path fill="lighten" w="11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rId5" action="ppaction://hlinksldjump"/>
          </p:cNvPr>
          <p:cNvSpPr/>
          <p:nvPr/>
        </p:nvSpPr>
        <p:spPr>
          <a:xfrm>
            <a:off x="5181480" y="3352680"/>
            <a:ext cx="3171960" cy="60984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2295" h="21600">
                <a:moveTo>
                  <a:pt x="0" y="0"/>
                </a:moveTo>
                <a:lnTo>
                  <a:pt x="112295" y="0"/>
                </a:lnTo>
                <a:lnTo>
                  <a:pt x="112295" y="21600"/>
                </a:lnTo>
                <a:lnTo>
                  <a:pt x="0" y="21600"/>
                </a:lnTo>
                <a:close/>
              </a:path>
              <a:path fill="lightenLess" w="112295" h="21600">
                <a:moveTo>
                  <a:pt x="0" y="0"/>
                </a:moveTo>
                <a:lnTo>
                  <a:pt x="112295" y="0"/>
                </a:lnTo>
                <a:lnTo>
                  <a:pt x="110895" y="1400"/>
                </a:lnTo>
                <a:lnTo>
                  <a:pt x="1400" y="1400"/>
                </a:lnTo>
                <a:close/>
              </a:path>
              <a:path fill="darken" w="112295" h="21600">
                <a:moveTo>
                  <a:pt x="112295" y="0"/>
                </a:moveTo>
                <a:lnTo>
                  <a:pt x="112295" y="21600"/>
                </a:lnTo>
                <a:lnTo>
                  <a:pt x="110895" y="20200"/>
                </a:lnTo>
                <a:lnTo>
                  <a:pt x="110895" y="1400"/>
                </a:lnTo>
                <a:close/>
              </a:path>
              <a:path fill="darkenLess" w="112295" h="21600">
                <a:moveTo>
                  <a:pt x="11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95" y="20200"/>
                </a:lnTo>
                <a:close/>
              </a:path>
              <a:path fill="lighten" w="11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6" action="ppaction://hlinksldjump"/>
          </p:cNvPr>
          <p:cNvSpPr/>
          <p:nvPr/>
        </p:nvSpPr>
        <p:spPr>
          <a:xfrm>
            <a:off x="10666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7" action="ppaction://hlinksldjump"/>
          </p:cNvPr>
          <p:cNvSpPr/>
          <p:nvPr/>
        </p:nvSpPr>
        <p:spPr>
          <a:xfrm>
            <a:off x="10666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a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rId8" action="ppaction://hlinksldjump"/>
          </p:cNvPr>
          <p:cNvSpPr/>
          <p:nvPr/>
        </p:nvSpPr>
        <p:spPr>
          <a:xfrm>
            <a:off x="5181480" y="457200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>
            <a:hlinkClick r:id="rId9" action="ppaction://hlinksldjump"/>
          </p:cNvPr>
          <p:cNvSpPr/>
          <p:nvPr/>
        </p:nvSpPr>
        <p:spPr>
          <a:xfrm>
            <a:off x="5181480" y="5334120"/>
            <a:ext cx="3171960" cy="609480"/>
          </a:xfrm>
          <a:custGeom>
            <a:avLst/>
            <a:gdLst>
              <a:gd name="textAreaLeft" fmla="*/ 39240 w 3171960"/>
              <a:gd name="textAreaRight" fmla="*/ 3132720 w 317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2361" h="21600">
                <a:moveTo>
                  <a:pt x="0" y="0"/>
                </a:moveTo>
                <a:lnTo>
                  <a:pt x="112361" y="0"/>
                </a:lnTo>
                <a:lnTo>
                  <a:pt x="112361" y="21600"/>
                </a:lnTo>
                <a:lnTo>
                  <a:pt x="0" y="21600"/>
                </a:lnTo>
                <a:close/>
              </a:path>
              <a:path fill="lightenLess" w="112361" h="21600">
                <a:moveTo>
                  <a:pt x="0" y="0"/>
                </a:moveTo>
                <a:lnTo>
                  <a:pt x="112361" y="0"/>
                </a:lnTo>
                <a:lnTo>
                  <a:pt x="110961" y="1400"/>
                </a:lnTo>
                <a:lnTo>
                  <a:pt x="1400" y="1400"/>
                </a:lnTo>
                <a:close/>
              </a:path>
              <a:path fill="darken" w="112361" h="21600">
                <a:moveTo>
                  <a:pt x="112361" y="0"/>
                </a:moveTo>
                <a:lnTo>
                  <a:pt x="112361" y="21600"/>
                </a:lnTo>
                <a:lnTo>
                  <a:pt x="110961" y="20200"/>
                </a:lnTo>
                <a:lnTo>
                  <a:pt x="110961" y="1400"/>
                </a:lnTo>
                <a:close/>
              </a:path>
              <a:path fill="darkenLess" w="112361" h="21600">
                <a:moveTo>
                  <a:pt x="112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961" y="20200"/>
                </a:lnTo>
                <a:close/>
              </a:path>
              <a:path fill="lighten" w="112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ologis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>
            <a:hlinkClick r:id="rId10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include transitions, sounds, pictures and hyperlinks, but emphasize on the content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r more pages/slides on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information on your specialt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cientist and why they are important (Scientist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microorganisms (Help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 microorganisms (Harmful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a specific microbe (Microbe Exp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lide to persuade committee to fund furthe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rubric to make sure you have all tha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7772400" y="6553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4b4e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/>
          </p:cNvPr>
          <p:cNvSpPr/>
          <p:nvPr/>
        </p:nvSpPr>
        <p:spPr>
          <a:xfrm>
            <a:off x="2971800" y="5791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b7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/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atulations!  You have completed a junior diploma of microbiology and experienced the importance of microbiologists!  Wow, to those of you that convinced the committee to fund your research.  Time to make the world a safer pl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rId2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rologist 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bout Louis Pas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formation on pasteur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2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information on how virology has helped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3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5120" y="201780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4" action="ppaction://hlinksldjump"/>
              </a:rPr>
              <a:t>Identify the microbe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need your table from your dipl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specific mic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it helpful? Harm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fu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on how viruses have played a harmful role in our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ff"/>
                </a:solidFill>
                <a:uFillTx/>
                <a:latin typeface="Arial"/>
                <a:hlinkClick r:id="rId5" action="ppaction://hlinksldjump"/>
              </a:rPr>
              <a:t>Website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>
            <a:hlinkClick r:id="rId6" action="ppaction://hlinksldjump"/>
          </p:cNvPr>
          <p:cNvSpPr/>
          <p:nvPr/>
        </p:nvSpPr>
        <p:spPr>
          <a:xfrm>
            <a:off x="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8655" y="3837"/>
                </a:moveTo>
                <a:lnTo>
                  <a:pt x="21232" y="6448"/>
                </a:ln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lnTo>
                  <a:pt x="25618" y="10800"/>
                </a:lnTo>
                <a:lnTo>
                  <a:pt x="23965" y="10800"/>
                </a:lnTo>
                <a:lnTo>
                  <a:pt x="23965" y="17989"/>
                </a:lnTo>
                <a:lnTo>
                  <a:pt x="13346" y="17989"/>
                </a:lnTo>
                <a:lnTo>
                  <a:pt x="13346" y="10800"/>
                </a:lnTo>
                <a:lnTo>
                  <a:pt x="11692" y="10800"/>
                </a:lnTo>
                <a:close/>
              </a:path>
              <a:path fill="darkenLess" w="37311" h="21600">
                <a:moveTo>
                  <a:pt x="21232" y="6448"/>
                </a:moveTo>
                <a:lnTo>
                  <a:pt x="21232" y="4707"/>
                </a:lnTo>
                <a:lnTo>
                  <a:pt x="23007" y="4707"/>
                </a:lnTo>
                <a:lnTo>
                  <a:pt x="23007" y="8224"/>
                </a:lnTo>
                <a:close/>
              </a:path>
              <a:path fill="darkenLess" w="37311" h="21600">
                <a:moveTo>
                  <a:pt x="17733" y="14299"/>
                </a:moveTo>
                <a:lnTo>
                  <a:pt x="19578" y="14299"/>
                </a:lnTo>
                <a:lnTo>
                  <a:pt x="19578" y="17989"/>
                </a:lnTo>
                <a:lnTo>
                  <a:pt x="23965" y="17989"/>
                </a:lnTo>
                <a:lnTo>
                  <a:pt x="23965" y="10800"/>
                </a:lnTo>
                <a:lnTo>
                  <a:pt x="13346" y="10800"/>
                </a:lnTo>
                <a:lnTo>
                  <a:pt x="13346" y="17989"/>
                </a:lnTo>
                <a:lnTo>
                  <a:pt x="17733" y="17989"/>
                </a:lnTo>
                <a:close/>
              </a:path>
            </a:pathLst>
          </a:cu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8543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3:29:32Z</dcterms:created>
  <dc:creator>ASD Teacher</dc:creator>
  <dc:description/>
  <dc:language>en-US</dc:language>
  <cp:lastModifiedBy>Nitzan Resnick</cp:lastModifiedBy>
  <dcterms:modified xsi:type="dcterms:W3CDTF">2009-08-13T13:06:32Z</dcterms:modified>
  <cp:revision>52</cp:revision>
  <dc:subject/>
  <dc:title>You are the Microbiologist</dc:title>
</cp:coreProperties>
</file>